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</p:sldIdLst>
  <p:sldSz cx="12193588" cy="6858000"/>
  <p:notesSz cx="67929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0"/>
            <a:ext cx="67932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dt" idx="13"/>
          </p:nvPr>
        </p:nvSpPr>
        <p:spPr>
          <a:xfrm>
            <a:off x="3846240" y="0"/>
            <a:ext cx="2943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Img"/>
          </p:nvPr>
        </p:nvSpPr>
        <p:spPr>
          <a:xfrm>
            <a:off x="434520" y="1233360"/>
            <a:ext cx="5921640" cy="3332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eb96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ftr" idx="14"/>
          </p:nvPr>
        </p:nvSpPr>
        <p:spPr>
          <a:xfrm>
            <a:off x="0" y="9377280"/>
            <a:ext cx="2943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 type="sldNum" idx="15"/>
          </p:nvPr>
        </p:nvSpPr>
        <p:spPr>
          <a:xfrm>
            <a:off x="384624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FE19F-04BF-4888-AD5F-BECFD77790A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CFA22-6BEB-41DD-A457-86F90B05E93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F37D4-6F00-47C1-80E9-B656D88078A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7C623-08E0-4A1C-8B8A-822341C2B95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1B8D6-6AA1-4D8B-9389-AE245BE1982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66DDD-D514-49F3-9CDC-33195C07D13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D198A-F847-47C0-BF2B-3052D6A18B5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2B5CC-EE62-4AA0-BFBC-D3CD0B9A70A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DDEEF-534A-4DE4-AF13-748A812AB55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3B769-9F71-4421-9935-B64CDDE1CC5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8E057-7601-44F9-B912-14ECAD7BD3B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2DCF9-E920-42E6-8DED-0112FA6CD74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F4337-4A97-4690-B122-189F87DF685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9CBAC-ADFB-487B-B87A-AF990FDF04B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145AE-29A3-4DF5-81FA-0C7F31D5C87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4DA39-B9E9-4D51-9F13-C8510D3B38A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6F28D-28FD-4C2B-BCD8-133737255D8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AB384-B270-416D-A4E5-790716513B8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F5D25-50D3-4C04-A9CA-F06A3E0BBF7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21BEF-651C-42FE-A0B6-D519C7AB4A7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0882F-EE11-4E25-930A-81F0BFB0C53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6CE72-15D1-402A-8659-48130B3E243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999E9-46CA-4147-9E91-3B09CCF9001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323C2-49B2-47AD-B0EC-441671DFC7E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EF32-6B4A-4C76-B0AE-1EACEE806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CDDF-2610-403A-82C8-2C8B0275F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3C96-4571-48C3-8F94-F90736879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DA52-5A3F-429A-892C-3F58D112D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06F37-FF64-4051-96A6-9773A9619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ECF86-7488-4750-9220-BA86298C6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30EC8-E63C-4C9B-91B5-D71A76B63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41120-26B0-4AF1-A6AC-564C421A9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9D2F7-8791-4A8F-A063-ED6D250E5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CA008-20E9-4B9A-BD0C-A6AC78201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39A44-E6EF-47DB-9F20-BA0DC6AA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E3E8-1700-4C8C-9BCB-8C115B8D5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0BD6C-9EB7-40A2-9D76-9AB065F41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0A8C7-1943-4AD6-AAF4-5B2255B1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FBB47-DD68-48CD-9D95-8E24F4B38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914FC-917C-46D5-B797-CB3230367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FA84C-203F-4027-AE2D-213E53699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C3BDA-0634-468A-99A9-4423647F7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02CF2-FA53-4203-9F74-01D78280A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C9650-583F-432B-BE3C-835C1667A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848CF-BB0E-4E36-9DA4-ABB585414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46024-B9E5-42F6-9276-D918A913A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05ED-0A4A-4A67-8F89-4FF64AC9B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66C7D-3149-4901-8C2D-8CC994BD9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EDDF3-DAF2-4FD1-8042-59EBCA2A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C3D19-F78F-4D43-A010-54EE141CC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60EA9-786B-4A34-AB96-4C12D47A3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28935-634D-4AA9-88D1-07AB48F5C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9428D-49E5-4213-AC50-E29CF6B2C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7CB87-0D15-4E7F-BB4C-2934225D9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22EDC-4673-40A3-98CC-C33B0BEAD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A6A8B-232F-46A3-9A6F-7736EDCE8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131DB-0324-4B81-9675-4182B41AA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1B9D-40A8-492A-9655-55B2A1A69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C879D-0AEA-449E-B93B-59008BA5C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7C8AC-EA6C-4388-93AF-59C9C95A0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733E6-17A1-4A53-957E-D218DAA2A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9ED9A-436D-4AFC-9EE2-909C4C763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C761C-BB9E-4A19-B63C-CF4150DD0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45A5A-1D92-40F4-831C-C8B1AE1D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C8BD7-9BD4-43C8-BD6B-81649F023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F6D20-C0BC-4E53-9A2D-F075919A5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6CBDD-0484-42AB-AEE6-3DEE9BA58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F789-4755-4009-A7A4-3D49C183F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83BF-D6F6-4CE2-991A-B41EAE5E7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B828-B97F-4B11-9883-FDC97A56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820A-2712-4664-AC3F-91F3E8D1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C338-A60E-406E-B160-B4C36E59C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2160" y="-7920"/>
              <a:ext cx="3006720" cy="6865920"/>
            </a:xfrm>
            <a:prstGeom prst="pie">
              <a:avLst/>
            </a:prstGeom>
            <a:solidFill>
              <a:srgbClr val="ceb96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000" y="-7920"/>
              <a:ext cx="2589120" cy="6865920"/>
            </a:xfrm>
            <a:prstGeom prst="pie">
              <a:avLst/>
            </a:prstGeom>
            <a:solidFill>
              <a:srgbClr val="ceb96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9cb084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768d5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280" y="-7920"/>
              <a:ext cx="1290600" cy="6865920"/>
            </a:xfrm>
            <a:prstGeom prst="pie">
              <a:avLst/>
            </a:prstGeom>
            <a:solidFill>
              <a:srgbClr val="e2d5a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680" y="-7920"/>
              <a:ext cx="1249200" cy="6865920"/>
            </a:xfrm>
            <a:prstGeom prst="pie">
              <a:avLst/>
            </a:prstGeom>
            <a:solidFill>
              <a:srgbClr val="ceb96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ceb96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ceb96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eb96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ceb96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ceb96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ceb96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ceb96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ceb96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ceb96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D2F15-8B69-44F8-9B84-1ED5008C2789}" type="slidenum">
              <a:rPr b="0" lang="ru-RU" sz="900" spc="-1" strike="noStrike">
                <a:solidFill>
                  <a:srgbClr val="ceb96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53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9182160" y="-7920"/>
              <a:ext cx="3006720" cy="6865920"/>
            </a:xfrm>
            <a:prstGeom prst="pie">
              <a:avLst/>
            </a:prstGeom>
            <a:solidFill>
              <a:srgbClr val="ceb96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9603000" y="-7920"/>
              <a:ext cx="2589120" cy="6865920"/>
            </a:xfrm>
            <a:prstGeom prst="pie">
              <a:avLst/>
            </a:prstGeom>
            <a:solidFill>
              <a:srgbClr val="ceb96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9cb084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768d5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10898280" y="-7920"/>
              <a:ext cx="1290600" cy="6865920"/>
            </a:xfrm>
            <a:prstGeom prst="pie">
              <a:avLst/>
            </a:prstGeom>
            <a:solidFill>
              <a:srgbClr val="e2d5a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10939680" y="-7920"/>
              <a:ext cx="1249200" cy="6865920"/>
            </a:xfrm>
            <a:prstGeom prst="pie">
              <a:avLst/>
            </a:prstGeom>
            <a:solidFill>
              <a:srgbClr val="ceb96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ceb96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ceb96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6"/>
          <p:cNvGrpSpPr/>
          <p:nvPr/>
        </p:nvGrpSpPr>
        <p:grpSpPr>
          <a:xfrm>
            <a:off x="-360" y="-7920"/>
            <a:ext cx="12192480" cy="6865920"/>
            <a:chOff x="-360" y="-7920"/>
            <a:chExt cx="12192480" cy="6865920"/>
          </a:xfrm>
        </p:grpSpPr>
        <p:sp>
          <p:nvSpPr>
            <p:cNvPr id="64" name="Straight Connector 31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23"/>
            <p:cNvSpPr/>
            <p:nvPr/>
          </p:nvSpPr>
          <p:spPr>
            <a:xfrm>
              <a:off x="9182160" y="-7920"/>
              <a:ext cx="3006720" cy="6865920"/>
            </a:xfrm>
            <a:prstGeom prst="pie">
              <a:avLst/>
            </a:prstGeom>
            <a:solidFill>
              <a:srgbClr val="ceb96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25"/>
            <p:cNvSpPr/>
            <p:nvPr/>
          </p:nvSpPr>
          <p:spPr>
            <a:xfrm>
              <a:off x="9603000" y="-7920"/>
              <a:ext cx="2589120" cy="6865920"/>
            </a:xfrm>
            <a:prstGeom prst="pie">
              <a:avLst/>
            </a:prstGeom>
            <a:solidFill>
              <a:srgbClr val="ceb96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Isosceles Triangle 26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9cb084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768d5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28"/>
            <p:cNvSpPr/>
            <p:nvPr/>
          </p:nvSpPr>
          <p:spPr>
            <a:xfrm>
              <a:off x="10898280" y="-7920"/>
              <a:ext cx="1290600" cy="6865920"/>
            </a:xfrm>
            <a:prstGeom prst="pie">
              <a:avLst/>
            </a:prstGeom>
            <a:solidFill>
              <a:srgbClr val="e2d5a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29"/>
            <p:cNvSpPr/>
            <p:nvPr/>
          </p:nvSpPr>
          <p:spPr>
            <a:xfrm>
              <a:off x="10939680" y="-7920"/>
              <a:ext cx="1249200" cy="6865920"/>
            </a:xfrm>
            <a:prstGeom prst="pie">
              <a:avLst/>
            </a:prstGeom>
            <a:solidFill>
              <a:srgbClr val="ceb96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Isosceles Triangle 30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ceb96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Isosceles Triangle 18"/>
            <p:cNvSpPr/>
            <p:nvPr/>
          </p:nvSpPr>
          <p:spPr>
            <a:xfrm rot="10800000">
              <a:off x="0" y="-360"/>
              <a:ext cx="842760" cy="5666040"/>
            </a:xfrm>
            <a:prstGeom prst="triangle">
              <a:avLst>
                <a:gd name="adj" fmla="val 100000"/>
              </a:avLst>
            </a:prstGeom>
            <a:solidFill>
              <a:srgbClr val="ceb96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eb96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ceb96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ceb96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ceb96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ceb96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ceb96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ceb96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604C1-CA26-4740-96AB-77954FB6BB06}" type="slidenum">
              <a:rPr b="0" lang="ru-RU" sz="900" spc="-1" strike="noStrike">
                <a:solidFill>
                  <a:srgbClr val="ceb96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16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23"/>
            <p:cNvSpPr/>
            <p:nvPr/>
          </p:nvSpPr>
          <p:spPr>
            <a:xfrm>
              <a:off x="9182160" y="-7920"/>
              <a:ext cx="3006720" cy="6865920"/>
            </a:xfrm>
            <a:prstGeom prst="pie">
              <a:avLst/>
            </a:prstGeom>
            <a:solidFill>
              <a:srgbClr val="ceb96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5"/>
            <p:cNvSpPr/>
            <p:nvPr/>
          </p:nvSpPr>
          <p:spPr>
            <a:xfrm>
              <a:off x="9603000" y="-7920"/>
              <a:ext cx="2589120" cy="6865920"/>
            </a:xfrm>
            <a:prstGeom prst="pie">
              <a:avLst/>
            </a:prstGeom>
            <a:solidFill>
              <a:srgbClr val="ceb96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9cb084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768d5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28"/>
            <p:cNvSpPr/>
            <p:nvPr/>
          </p:nvSpPr>
          <p:spPr>
            <a:xfrm>
              <a:off x="10898280" y="-7920"/>
              <a:ext cx="1290600" cy="6865920"/>
            </a:xfrm>
            <a:prstGeom prst="pie">
              <a:avLst/>
            </a:prstGeom>
            <a:solidFill>
              <a:srgbClr val="e2d5a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29"/>
            <p:cNvSpPr/>
            <p:nvPr/>
          </p:nvSpPr>
          <p:spPr>
            <a:xfrm>
              <a:off x="10939680" y="-7920"/>
              <a:ext cx="1249200" cy="6865920"/>
            </a:xfrm>
            <a:prstGeom prst="pie">
              <a:avLst/>
            </a:prstGeom>
            <a:solidFill>
              <a:srgbClr val="ceb96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ceb96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ceb96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2d5a3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2d5a3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eb96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ceb96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ceb96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ceb96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ceb96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ceb96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ceb96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CAC7D-6FB2-4B73-BD94-6435D7FD30E0}" type="slidenum">
              <a:rPr b="0" lang="ru-RU" sz="900" spc="-1" strike="noStrike">
                <a:solidFill>
                  <a:srgbClr val="ceb96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70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23"/>
            <p:cNvSpPr/>
            <p:nvPr/>
          </p:nvSpPr>
          <p:spPr>
            <a:xfrm>
              <a:off x="9182160" y="-7920"/>
              <a:ext cx="3006720" cy="6865920"/>
            </a:xfrm>
            <a:prstGeom prst="pie">
              <a:avLst/>
            </a:prstGeom>
            <a:solidFill>
              <a:srgbClr val="ceb96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25"/>
            <p:cNvSpPr/>
            <p:nvPr/>
          </p:nvSpPr>
          <p:spPr>
            <a:xfrm>
              <a:off x="9603000" y="-7920"/>
              <a:ext cx="2589120" cy="6865920"/>
            </a:xfrm>
            <a:prstGeom prst="pie">
              <a:avLst/>
            </a:prstGeom>
            <a:solidFill>
              <a:srgbClr val="ceb96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9cb084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768d5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28"/>
            <p:cNvSpPr/>
            <p:nvPr/>
          </p:nvSpPr>
          <p:spPr>
            <a:xfrm>
              <a:off x="10898280" y="-7920"/>
              <a:ext cx="1290600" cy="6865920"/>
            </a:xfrm>
            <a:prstGeom prst="pie">
              <a:avLst/>
            </a:prstGeom>
            <a:solidFill>
              <a:srgbClr val="e2d5a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9"/>
            <p:cNvSpPr/>
            <p:nvPr/>
          </p:nvSpPr>
          <p:spPr>
            <a:xfrm>
              <a:off x="10939680" y="-7920"/>
              <a:ext cx="1249200" cy="6865920"/>
            </a:xfrm>
            <a:prstGeom prst="pie">
              <a:avLst/>
            </a:prstGeom>
            <a:solidFill>
              <a:srgbClr val="ceb96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ceb96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ceb96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2d5a3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2d5a3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eb96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ceb96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ceb96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ceb96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ceb96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ceb96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ceb96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ACE6F-C3CD-420A-BD83-383A1F2F4F82}" type="slidenum">
              <a:rPr b="0" lang="ru-RU" sz="900" spc="-1" strike="noStrike">
                <a:solidFill>
                  <a:srgbClr val="ceb96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consultantplus://offline/ref=1D0F26EE847ABDC438AE7857713BA7127EF6403C08E45B9646AB34EF239DDFDDBAFB9FB0E2AF9626CC34AB32FFEDC5E12815ED0E5F3BD4FCZCwEK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s://edsoo.ru/Normativnie_dokumenti.htm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consultantplus://offline/ref=0A004D95D217700767940AEEDB60F2DF995F27D62EC43B97643BBD5D90954E2EC6436228DC2ACA03E0A1BE884A92305507C1656E3844086926QAN" TargetMode="External"/><Relationship Id="rId2" Type="http://schemas.openxmlformats.org/officeDocument/2006/relationships/hyperlink" Target="consultantplus://offline/ref=0A004D95D217700767940AEEDB60F2DF995F27D62EC43B97643BBD5D90954E2EC6436228DC2ACA03E0A1BE884A92305507C1656E3844086926QAN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74760" y="667800"/>
            <a:ext cx="671832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ормирование учебного плана в условиях перехода на новые федеральные государственные образовательные стандарты начального общего и основного общего образования</a:t>
            </a: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3416400" y="6021360"/>
          <a:ext cx="4948200" cy="485640"/>
        </p:xfrm>
        <a:graphic>
          <a:graphicData uri="http://schemas.openxmlformats.org/drawingml/2006/table">
            <a:tbl>
              <a:tblPr/>
              <a:tblGrid>
                <a:gridCol w="4948200"/>
              </a:tblGrid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г.Твер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884240" y="299880"/>
            <a:ext cx="7390080" cy="10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личительные особенности ФГОС-2021  </a:t>
            </a:r>
            <a:endParaRPr b="0" lang="en-US" sz="28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1560" y="902880"/>
            <a:ext cx="9980640" cy="144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Учебные планы начального общего и основного общего образовани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Rectangle 1"/>
          <p:cNvSpPr/>
          <p:nvPr/>
        </p:nvSpPr>
        <p:spPr>
          <a:xfrm>
            <a:off x="347760" y="1537560"/>
            <a:ext cx="1112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4) Введено понятие «учебный модуль»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(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часть содержания образования, в пределах которой осуществляется освоение относительно самостоятельного тематического блока учебного предмета или учебного курса либо нескольких взаимосвязанных раздел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81000" y="2570040"/>
          <a:ext cx="11296440" cy="4292640"/>
        </p:xfrm>
        <a:graphic>
          <a:graphicData uri="http://schemas.openxmlformats.org/drawingml/2006/table">
            <a:tbl>
              <a:tblPr/>
              <a:tblGrid>
                <a:gridCol w="5637240"/>
                <a:gridCol w="5659200"/>
              </a:tblGrid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овень начального общего обра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овень основного общего образ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365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32.1 ФГОС Н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изучении предметной области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Основы религиозных культур и светской этики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бор одного из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учебных модулей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Основы православной культуры»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Основы исламской культуры»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Основы буддийской культуры»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Основы иудейской культуры»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Основы религиозных культур народов России»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Основы светской этики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33.1 ФГОС О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изучении предметной области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Основы духовно-нравственной культуры народов России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заявлению обучающихся, родителей (законных представителей) несовершеннолетних обучающихся осуществляется выбор одного из учебных курсов (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учебных модулей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из перечня, предлагаемого Организаци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884240" y="382680"/>
            <a:ext cx="7390080" cy="82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ебно-методическое обеспечение</a:t>
            </a:r>
            <a:endParaRPr b="0" lang="en-US" sz="28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60" name="Rectangle 1"/>
          <p:cNvSpPr/>
          <p:nvPr/>
        </p:nvSpPr>
        <p:spPr>
          <a:xfrm>
            <a:off x="257040" y="1063080"/>
            <a:ext cx="100364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Федеральный закон от 29.12.2012 № 273-ФЗ «Об образовании в Российской Федераци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Calibri"/>
              </a:rPr>
              <a:t>Статья 18. Печатные и электронные образовательные и информационные ресур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«4. Организации, осуществляющие образовательную деятельность по имеющим государственную аккредитацию образовательным программам начального общего, основного общего, среднего общего образования, для использования при реализации указанных образовательных программ выбираю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1)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учебник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 числа входящих в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федеральный перечень учебник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, допущенных к использованию при реализации имеющих государственную аккредитацию образовательных программ начального общего, основного общего, среднего общего образ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в ред. Федерального </a:t>
            </a:r>
            <a:r>
              <a:rPr b="0" lang="ru-RU" sz="2000" spc="-1" strike="noStrike" u="sng">
                <a:solidFill>
                  <a:srgbClr val="410082"/>
                </a:solidFill>
                <a:uFillTx/>
                <a:latin typeface="Times New Roman"/>
                <a:ea typeface="Calibri"/>
                <a:hlinkClick r:id="rId1"/>
              </a:rPr>
              <a:t>закона от 02.12.2019 № 403-ФЗ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)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учебные пособ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, выпущенные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организациями, входящими в перечень организаций, осуществляющих выпуск учебных пособи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, которые допускаются к использованию при реализации имеющих государственную аккредитацию образовательных программ начального общего, основного общего, среднего общего образовани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884240" y="299880"/>
            <a:ext cx="7390080" cy="10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личительные особенности ФГОС-2021  </a:t>
            </a:r>
            <a:endParaRPr b="0" lang="en-US" sz="28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01560" y="902880"/>
            <a:ext cx="99806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Учебный план начального общего образовани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Rectangle 1"/>
          <p:cNvSpPr/>
          <p:nvPr/>
        </p:nvSpPr>
        <p:spPr>
          <a:xfrm>
            <a:off x="254160" y="1267560"/>
            <a:ext cx="1088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5) Влияние санитарно-эпидемиологических нормативов на определение трудоемкости учебного предм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2"/>
          <p:cNvSpPr/>
          <p:nvPr/>
        </p:nvSpPr>
        <p:spPr>
          <a:xfrm>
            <a:off x="371520" y="2003400"/>
            <a:ext cx="10415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Times New Roman"/>
                <a:ea typeface="Calibri"/>
              </a:rPr>
              <a:t>Постановление Главного государственного санитарного врача РФ от 28.01.2021 №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Times New Roman"/>
                <a:ea typeface="Calibri"/>
              </a:rPr>
              <a:t>«Об утверждении санитарных правил и норм СанПиН 1.2.3685-21 "Гигиенические нормативы и требования к обеспечению безопасности и (или) безвредности для человека факторов среды обитан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Таблица 6.6 Требования к организации образовательного проце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304920" y="3546360"/>
          <a:ext cx="10279080" cy="3338640"/>
        </p:xfrm>
        <a:graphic>
          <a:graphicData uri="http://schemas.openxmlformats.org/drawingml/2006/table">
            <a:tbl>
              <a:tblPr/>
              <a:tblGrid>
                <a:gridCol w="3409920"/>
                <a:gridCol w="1576440"/>
                <a:gridCol w="2722320"/>
                <a:gridCol w="2570400"/>
              </a:tblGrid>
              <a:tr h="1465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должительность дневной суммарной образовательной нагрузки для обучающихся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 боле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клас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 включении в расписание занятий 2-х уроков физической культуры в недел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 у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238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включении в расписание занятий 3-х уроков физической культуры в недел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урока и 1 раз в неделю - 5 уроко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884240" y="299880"/>
            <a:ext cx="7390080" cy="10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личительные особенности ФГОС-2021  </a:t>
            </a:r>
            <a:endParaRPr b="0" lang="en-US" sz="28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01560" y="902880"/>
            <a:ext cx="99806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Учебные планы начального общего и основного общего образовани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8" name="Rectangle 1"/>
          <p:cNvSpPr/>
          <p:nvPr/>
        </p:nvSpPr>
        <p:spPr>
          <a:xfrm>
            <a:off x="601560" y="1603440"/>
            <a:ext cx="1088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6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) Формы промежуточной аттес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3"/>
          <p:cNvSpPr/>
          <p:nvPr/>
        </p:nvSpPr>
        <p:spPr>
          <a:xfrm>
            <a:off x="601560" y="2481120"/>
            <a:ext cx="9872640" cy="40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ceb96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исьмо Минпросвещения России №СК-228/03, Рособрнадзора №01-169/08-01 от 06.08.2021 «О направлении Рекомендаций» (вместе с «Рекомендациями для системы общего образования по основным подходам к формированию графика проведения оценочных процедур в общеобразовательных организациях в 2021/2022 учебном году»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ceb96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исьмо Рособрнадзора от 22.03.2022 №01-28/08-01 «О переносе сроков проведения ВПР в общеобразовательных организациях в 2022 году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ceb96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исьмо Рособрнадзора от 22.03.2022 №01-31/08-01 (дополнение к письму Рособрнадзора от 22.03.2022 №1-28/08-0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884240" y="299880"/>
            <a:ext cx="7390080" cy="10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личительные особенности ФГОС-2021  </a:t>
            </a:r>
            <a:endParaRPr b="0" lang="en-US" sz="28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601560" y="902880"/>
            <a:ext cx="99806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Учебные планы начального общего и основного общего образовани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2" name="Rectangle 1"/>
          <p:cNvSpPr/>
          <p:nvPr/>
        </p:nvSpPr>
        <p:spPr>
          <a:xfrm>
            <a:off x="601560" y="1356480"/>
            <a:ext cx="900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7) Разработка и реализация индивидуальных учебных пл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3"/>
          <p:cNvSpPr/>
          <p:nvPr/>
        </p:nvSpPr>
        <p:spPr>
          <a:xfrm>
            <a:off x="485640" y="1925640"/>
            <a:ext cx="978084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Федеральный закон от 29.12.2012 № 273-ФЗ «Об образовании в Российской Федерации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Times New Roman"/>
                <a:ea typeface="Calibri"/>
              </a:rPr>
              <a:t>статья 2. Основные понятия, используемые в настоящем Федеральном зако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3)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индивидуальный учебный план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 учебный план, обеспечивающий освоение образовательной программы на основе индивидуализации ее содержания с учетом особенностей и образовательных потребностей конкретного обучающего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0" y="3530520"/>
          <a:ext cx="12192120" cy="3506760"/>
        </p:xfrm>
        <a:graphic>
          <a:graphicData uri="http://schemas.openxmlformats.org/drawingml/2006/table">
            <a:tbl>
              <a:tblPr/>
              <a:tblGrid>
                <a:gridCol w="4389480"/>
                <a:gridCol w="7802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овень начального общего обра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овень основного общего обра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286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17 ФГОС Н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 получения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начального общего образования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оставляет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не более 4 лет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лиц, обучающихся по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индивидуальным учебным планам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срок получения начального общего образования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ожет быть сокращен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17 ФГОС О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 получения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основного общего образования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ляет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не более 5 лет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обучающихся с ОВЗ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обучении по адаптированным программам основного общего образования, независимо от применяемых образовательных технологий, срок получения основного общего образования может быть увеличен, но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не более чем до 6 лет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лиц, обучающихся по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индивидуальным учебным планам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срок получения основного общего образования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ожет быть сокращен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884240" y="299880"/>
            <a:ext cx="7390080" cy="10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личительные особенности ФГОС-2021  </a:t>
            </a:r>
            <a:endParaRPr b="0" lang="en-US" sz="28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601560" y="902880"/>
            <a:ext cx="99806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Рабочие программы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285840" y="1498680"/>
          <a:ext cx="10961640" cy="5359320"/>
        </p:xfrm>
        <a:graphic>
          <a:graphicData uri="http://schemas.openxmlformats.org/drawingml/2006/table">
            <a:tbl>
              <a:tblPr/>
              <a:tblGrid>
                <a:gridCol w="5479920"/>
                <a:gridCol w="5481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овень начального общего обра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овень основного общего обра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4716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31.1 ФГОС Н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32.1 ФГОС О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чие программы учебных предметов, учебных курсов (в том числе внеурочной деятельности), учебных модулей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должны включать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ого предмета, учебного курса (в том числе внеурочной деятельности), учебного модуля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ланируемые результаты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воения учебного предмета, учебного курса (в том числе внеурочной деятельности), учебного модуля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тематическое планирование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указанием </a:t>
                      </a:r>
                      <a:r>
                        <a:rPr b="1" i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количества академических часов, отводимых на освоение каждой темы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ого предмета, учебного курса (в том числе внеурочной деятельности), учебного модуля и </a:t>
                      </a:r>
                      <a:r>
                        <a:rPr b="1" i="1" lang="ru-RU" sz="2200" spc="-1" strike="noStrike" u="sng">
                          <a:solidFill>
                            <a:srgbClr val="c00000"/>
                          </a:solidFill>
                          <a:uFillTx/>
                          <a:latin typeface="Times New Roman"/>
                          <a:ea typeface="Times New Roman"/>
                        </a:rPr>
                        <a:t>возможность использования по этой теме электронных (цифровых) образовательных ресурсов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вляющихся учебно-методическими материалами (мультимедийные программы, электронные учебники и задачники, электронные библиотеки, виртуальные лаборатории, игровые программы, коллекции цифровых образовательных ресурсов), используемыми для обучения и воспитания различных групп пользователей, представленными в электронном (цифровом) виде и реализующими дидактические возможности ИКТ, содержание которых соответствует законодательству об образован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50560" y="164880"/>
            <a:ext cx="9356760" cy="66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Trebuchet MS"/>
              </a:rPr>
              <a:t>                  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личительные особенности ФГОС-2021 </a:t>
            </a:r>
            <a:br>
              <a:rPr sz="2800"/>
            </a:br>
            <a:r>
              <a:rPr b="1" lang="ru-RU" sz="2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Примерные рабочие программы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ttps://edsoo.ru/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2400"/>
            </a:br>
            <a:endParaRPr b="0" lang="en-US" sz="3200" spc="-1" strike="noStrike">
              <a:solidFill>
                <a:srgbClr val="ceb966"/>
              </a:solidFill>
              <a:latin typeface="Trebuchet MS"/>
            </a:endParaRPr>
          </a:p>
        </p:txBody>
      </p:sp>
      <p:pic>
        <p:nvPicPr>
          <p:cNvPr id="279" name="Рисунок 1" descr=""/>
          <p:cNvPicPr/>
          <p:nvPr/>
        </p:nvPicPr>
        <p:blipFill>
          <a:blip r:embed="rId1"/>
          <a:stretch/>
        </p:blipFill>
        <p:spPr>
          <a:xfrm>
            <a:off x="5486400" y="1089000"/>
            <a:ext cx="4745160" cy="576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0" name=""/>
          <p:cNvGraphicFramePr/>
          <p:nvPr/>
        </p:nvGraphicFramePr>
        <p:xfrm>
          <a:off x="250920" y="1089000"/>
          <a:ext cx="5327640" cy="4846680"/>
        </p:xfrm>
        <a:graphic>
          <a:graphicData uri="http://schemas.openxmlformats.org/drawingml/2006/table">
            <a:tbl>
              <a:tblPr/>
              <a:tblGrid>
                <a:gridCol w="2878200"/>
                <a:gridCol w="2449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ОП Н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ОП О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4483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усский язы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итературное чт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ностранный язы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тема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кружающий ми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РК и С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узы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хнолог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З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d9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усский язы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итера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ностранный язы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тема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нформа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стор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ществозн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еограф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из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им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иолог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узы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хнолог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З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d9ea"/>
                    </a:solidFill>
                  </a:tcPr>
                </a:tc>
              </a:tr>
            </a:tbl>
          </a:graphicData>
        </a:graphic>
      </p:graphicFrame>
      <p:sp>
        <p:nvSpPr>
          <p:cNvPr id="281" name="Прямоугольник 4"/>
          <p:cNvSpPr/>
          <p:nvPr/>
        </p:nvSpPr>
        <p:spPr>
          <a:xfrm>
            <a:off x="0" y="5934240"/>
            <a:ext cx="637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граммы разработаны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 Родной язык/литератур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торой иностранный язык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(проек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стадии разработки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- ОДНК НР, программы углублен. уров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50560" y="164880"/>
            <a:ext cx="9356760" cy="66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Trebuchet MS"/>
              </a:rPr>
              <a:t>                  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личительные особенности ФГОС-2021 </a:t>
            </a:r>
            <a:br>
              <a:rPr sz="2800"/>
            </a:br>
            <a:r>
              <a:rPr b="1" lang="ru-RU" sz="2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Примерные рабочие программы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ttps://edsoo.ru/</a:t>
            </a:r>
            <a:br>
              <a:rPr sz="3200"/>
            </a:b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Уровень начального общего образования</a:t>
            </a:r>
            <a:br>
              <a:rPr sz="1800"/>
            </a:br>
            <a:br>
              <a:rPr sz="3200"/>
            </a:br>
            <a:br>
              <a:rPr sz="3200"/>
            </a:br>
            <a:br>
              <a:rPr sz="2400"/>
            </a:br>
            <a:endParaRPr b="0" lang="en-US" sz="2400" spc="-1" strike="noStrike">
              <a:solidFill>
                <a:srgbClr val="ceb966"/>
              </a:solidFill>
              <a:latin typeface="Trebuchet MS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1330200" y="1657440"/>
          <a:ext cx="7593120" cy="5337000"/>
        </p:xfrm>
        <a:graphic>
          <a:graphicData uri="http://schemas.openxmlformats.org/drawingml/2006/table">
            <a:tbl>
              <a:tblPr/>
              <a:tblGrid>
                <a:gridCol w="3962520"/>
                <a:gridCol w="909720"/>
                <a:gridCol w="909720"/>
                <a:gridCol w="911160"/>
                <a:gridCol w="900000"/>
              </a:tblGrid>
              <a:tr h="42696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именование предм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чество часов за учебный год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9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31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усский язы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331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тературное чт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31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одной язы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587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тературное чтение на родном язык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31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остранный язы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331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31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кружающий ми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587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новы религиозных культур и светской эт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31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зобразительное искус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331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узы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31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хнолог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330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изическая куль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50920" y="164880"/>
            <a:ext cx="10152000" cy="66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Trebuchet MS"/>
              </a:rPr>
              <a:t>                  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личительные особенности ФГОС-2021 </a:t>
            </a:r>
            <a:br>
              <a:rPr sz="2800"/>
            </a:br>
            <a:r>
              <a:rPr b="1" lang="ru-RU" sz="2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Примерные рабочие программы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ttps://edsoo.ru/</a:t>
            </a:r>
            <a:br>
              <a:rPr sz="3200"/>
            </a:b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Уровень основного общего образования</a:t>
            </a:r>
            <a:br>
              <a:rPr sz="1800"/>
            </a:br>
            <a:br>
              <a:rPr sz="3200"/>
            </a:br>
            <a:br>
              <a:rPr sz="3200"/>
            </a:br>
            <a:br>
              <a:rPr sz="2400"/>
            </a:br>
            <a:endParaRPr b="0" lang="en-US" sz="24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85" name="Прямоугольник 3"/>
          <p:cNvSpPr/>
          <p:nvPr/>
        </p:nvSpPr>
        <p:spPr>
          <a:xfrm>
            <a:off x="6870600" y="3191040"/>
            <a:ext cx="367524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КА (7-9 классы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ебра – по 102 ча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метрия – по 68 ча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оятность и статистика – по 34 час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420840" y="1622520"/>
          <a:ext cx="6281640" cy="5302080"/>
        </p:xfrm>
        <a:graphic>
          <a:graphicData uri="http://schemas.openxmlformats.org/drawingml/2006/table">
            <a:tbl>
              <a:tblPr/>
              <a:tblGrid>
                <a:gridCol w="2197080"/>
                <a:gridCol w="820440"/>
                <a:gridCol w="901800"/>
                <a:gridCol w="785880"/>
                <a:gridCol w="905040"/>
                <a:gridCol w="671400"/>
              </a:tblGrid>
              <a:tr h="228600">
                <a:tc rowSpan="2"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именование предм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 gridSpan="5"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чество часов за учебный го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2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228600"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усский язы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228600"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тера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228240"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одной язы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228600"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одная литератур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228600"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остранный язы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228600"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228600"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форма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228240"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сто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228600"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ществозн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228600"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еограф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228600"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из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228600"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им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228240"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и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340920"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З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228600"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узы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228240"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хн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228600"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изическая куль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261720">
                <a:tc>
                  <a:txBody>
                    <a:bodyPr lIns="48600" rIns="486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72240"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ДНК Н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 gridSpan="5"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рная рабочая программа в стадии разработ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50560" y="164880"/>
            <a:ext cx="9356760" cy="66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Trebuchet MS"/>
              </a:rPr>
              <a:t>                  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ые образовательные программы</a:t>
            </a:r>
            <a:br>
              <a:rPr sz="2800"/>
            </a:br>
            <a:br>
              <a:rPr sz="2800"/>
            </a:br>
            <a:r>
              <a:rPr b="1" lang="ru-RU" sz="2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Примерные основные образовательные программы</a:t>
            </a:r>
            <a:br>
              <a:rPr sz="2800"/>
            </a:br>
            <a:br>
              <a:rPr sz="2800"/>
            </a:br>
            <a:r>
              <a:rPr b="0" lang="ru-RU" sz="2000" spc="-1" strike="noStrike" u="sng">
                <a:solidFill>
                  <a:srgbClr val="410082"/>
                </a:solidFill>
                <a:uFillTx/>
                <a:latin typeface="Times New Roman"/>
                <a:ea typeface="Times New Roman"/>
                <a:hlinkClick r:id="rId1"/>
              </a:rPr>
              <a:t>https://edsoo.ru/Normativnie_dokumenti.htm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мерная основная образовательная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грамма начального общего образования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мерная основная образовательная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грамма начального общего образования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(протокол ФУМО от 18.03.2022 №1/22)</a:t>
            </a:r>
            <a:br>
              <a:rPr sz="2000"/>
            </a:b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мерные основные образовательные программы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мещены в Федеральном реестре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мерных основных общеобразовательных программ </a:t>
            </a:r>
            <a:br>
              <a:rPr sz="20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ttps://fgosreestr.ru</a:t>
            </a:r>
            <a:endParaRPr b="0" lang="en-US" sz="3200" spc="-1" strike="noStrike">
              <a:solidFill>
                <a:srgbClr val="ceb966"/>
              </a:solidFill>
              <a:latin typeface="Trebuchet MS"/>
            </a:endParaRPr>
          </a:p>
        </p:txBody>
      </p:sp>
      <p:pic>
        <p:nvPicPr>
          <p:cNvPr id="288" name="Рисунок 3" descr=""/>
          <p:cNvPicPr/>
          <p:nvPr/>
        </p:nvPicPr>
        <p:blipFill>
          <a:blip r:embed="rId2"/>
          <a:srcRect l="34761" t="14992" r="10908" b="4460"/>
          <a:stretch/>
        </p:blipFill>
        <p:spPr>
          <a:xfrm>
            <a:off x="6170760" y="1496880"/>
            <a:ext cx="4130640" cy="52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58560" y="261720"/>
            <a:ext cx="7940520" cy="82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ормативно-правовое обеспечение.</a:t>
            </a:r>
            <a:endParaRPr b="0" lang="en-US" sz="28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56760" y="858960"/>
            <a:ext cx="113634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Calibri"/>
              </a:rPr>
              <a:t>Федеральный закон от 29.12.2012 № 273-ФЗ «Об образовании в Российской Федерации» 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buClr>
                <a:srgbClr val="0d0d0d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риказ Министерства просвещения Российской Федерации от         31.05.2021 № 286 «Об утверждении федерального государственного образовательного стандарта начального общего образования»;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buClr>
                <a:srgbClr val="0d0d0d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риказ Министерства просвещения Российской Федерации от 31.05.2021 № 287 «Об утверждении федерального государственного образовательного стандарта основного общего образования»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buClr>
                <a:srgbClr val="40404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мерная ООП НОО.Одобрена решением федерального учебно-методического объединения по общему образованию, протокол от 18 марта 2022 г. № 1/22.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buClr>
                <a:srgbClr val="40404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мерная ООП ООО.Одобрена решением федерального учебно-методического объединения по общему образованию, протокол от 18 марта 2022 г. № 1/22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ceb9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rebuchet MS"/>
              </a:rPr>
              <a:t>СанПиН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57040" y="299880"/>
            <a:ext cx="10125360" cy="60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даптированная основная образовательная программа</a:t>
            </a:r>
            <a:endParaRPr b="0" lang="en-US" sz="28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601560" y="902880"/>
            <a:ext cx="99806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Обучение детей с ограниченными возможностями здоровь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Rectangle 1"/>
          <p:cNvSpPr/>
          <p:nvPr/>
        </p:nvSpPr>
        <p:spPr>
          <a:xfrm>
            <a:off x="601560" y="1327320"/>
            <a:ext cx="10881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Федеральный закон от 29.12.2012 № 273-ФЗ «Об образовании в Российской Федераци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Calibri"/>
              </a:rPr>
              <a:t>статья 2. Основные понятия, используемые в настоящем Федеральном зако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Прямоугольник 3"/>
          <p:cNvSpPr/>
          <p:nvPr/>
        </p:nvSpPr>
        <p:spPr>
          <a:xfrm>
            <a:off x="601560" y="2481120"/>
            <a:ext cx="9178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)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даптированная образовательная программ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разовательная программа, адаптированная для обучения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иц с ограниченными возможностями здоровь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учетом особенностей их психофизического развития, индивидуальных возможностей и при необходимости обеспечивающая коррекцию нарушений развития и социальную адаптацию указанных ли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50560" y="164880"/>
            <a:ext cx="9356760" cy="66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Trebuchet MS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даптированная основная образовательная программа</a:t>
            </a:r>
            <a:br>
              <a:rPr sz="2800"/>
            </a:br>
            <a:br>
              <a:rPr sz="2800"/>
            </a:br>
            <a:r>
              <a:rPr b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Обучение детей с ограниченными возможностями здоровья</a:t>
            </a:r>
            <a:br>
              <a:rPr sz="2800"/>
            </a:br>
            <a:br>
              <a:rPr sz="2800"/>
            </a:br>
            <a:endParaRPr b="0" lang="en-US" sz="2400" spc="-1" strike="noStrike">
              <a:solidFill>
                <a:srgbClr val="ceb966"/>
              </a:solidFill>
              <a:latin typeface="Trebuchet MS"/>
            </a:endParaRPr>
          </a:p>
        </p:txBody>
      </p:sp>
      <p:pic>
        <p:nvPicPr>
          <p:cNvPr id="294" name="Таблица 4" descr=""/>
          <p:cNvPicPr/>
          <p:nvPr/>
        </p:nvPicPr>
        <p:blipFill>
          <a:blip r:embed="rId1"/>
          <a:stretch/>
        </p:blipFill>
        <p:spPr>
          <a:xfrm>
            <a:off x="176040" y="1847880"/>
            <a:ext cx="10236240" cy="3462480"/>
          </a:xfrm>
          <a:prstGeom prst="rect">
            <a:avLst/>
          </a:prstGeom>
          <a:ln w="0">
            <a:noFill/>
          </a:ln>
        </p:spPr>
      </p:pic>
      <p:sp>
        <p:nvSpPr>
          <p:cNvPr id="295" name="Прямоугольник 6"/>
          <p:cNvSpPr/>
          <p:nvPr/>
        </p:nvSpPr>
        <p:spPr>
          <a:xfrm>
            <a:off x="250920" y="5408640"/>
            <a:ext cx="1046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На уровне начального общего образования реализуется ФГОС НОО ОВЗ, утвержденный приказом Минобрнауки России от 19.12.2014  №15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50560" y="164880"/>
            <a:ext cx="9356760" cy="66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Trebuchet MS"/>
              </a:rPr>
              <a:t>     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даптированная основная образовательная программа</a:t>
            </a:r>
            <a:br>
              <a:rPr sz="2800"/>
            </a:br>
            <a:r>
              <a:rPr b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Обучение детей с ограниченными возможностями здоровья</a:t>
            </a:r>
            <a:br>
              <a:rPr sz="2800"/>
            </a:br>
            <a:br>
              <a:rPr sz="2800"/>
            </a:b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Calibri"/>
              </a:rPr>
              <a:t>Уровень основного общего образования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. 33.1 ФГОС ООО</a:t>
            </a:r>
            <a:br>
              <a:rPr sz="2000"/>
            </a:br>
            <a:br>
              <a:rPr sz="2400"/>
            </a:br>
            <a:br>
              <a:rPr sz="2800"/>
            </a:br>
            <a:endParaRPr b="0" lang="en-US" sz="2000" spc="-1" strike="noStrike">
              <a:solidFill>
                <a:srgbClr val="ceb966"/>
              </a:solidFill>
              <a:latin typeface="Trebuchet MS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250920" y="2171880"/>
          <a:ext cx="9896400" cy="4698720"/>
        </p:xfrm>
        <a:graphic>
          <a:graphicData uri="http://schemas.openxmlformats.org/drawingml/2006/table">
            <a:tbl>
              <a:tblPr/>
              <a:tblGrid>
                <a:gridCol w="3057480"/>
                <a:gridCol w="6838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учающиеся с ОВ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зможные изменения в учебный пл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ухие и слабослышащ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исключени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из обязательных для изучения учебных предметов учебного предмета «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узык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ухие и слабослышащие, с ТН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включени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 предметную область «Русский язык и литература» обязательного для изучения учебного предмета «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Развитие реч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ухие и слабослышащие, с ТНР, с Н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менение 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роков и продолжительности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учения 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иностранного язы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 обучающиеся с ОВ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ключение учебного предмета «Физическая культура» и включение учебного предмета «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Адаптивная физическая культур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50560" y="164880"/>
            <a:ext cx="9356760" cy="66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Trebuchet MS"/>
              </a:rPr>
              <a:t>                  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личительные особенности ФГОС-2021 </a:t>
            </a:r>
            <a:br>
              <a:rPr sz="2800"/>
            </a:br>
            <a:r>
              <a:rPr b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Личностные результаты</a:t>
            </a:r>
            <a:br>
              <a:rPr sz="2800"/>
            </a:b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.  41 ФГОС НОО, п. 42 ФГОС ООО</a:t>
            </a:r>
            <a:br>
              <a:rPr sz="1600"/>
            </a:br>
            <a:endParaRPr b="0" lang="en-US" sz="1600" spc="-1" strike="noStrike">
              <a:solidFill>
                <a:srgbClr val="ceb966"/>
              </a:solidFill>
              <a:latin typeface="Trebuchet MS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0" y="1287360"/>
          <a:ext cx="12192120" cy="5570640"/>
        </p:xfrm>
        <a:graphic>
          <a:graphicData uri="http://schemas.openxmlformats.org/drawingml/2006/table">
            <a:tbl>
              <a:tblPr/>
              <a:tblGrid>
                <a:gridCol w="4687920"/>
                <a:gridCol w="7504200"/>
              </a:tblGrid>
              <a:tr h="295200">
                <a:tc>
                  <a:txBody>
                    <a:bodyPr lIns="66960" rIns="66960" tIns="0" bIns="0" anchor="t">
                      <a:noAutofit/>
                    </a:bodyPr>
                    <a:p>
                      <a:pPr marL="457200"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ы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marL="457200"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а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527544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. Личностные результаты освоения ООП НОО должны отражать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) формирование основ российской гражданской идентичности, чувства гордости за свою Родину, российский народ и историю России, осознание своей этнической и национальной принадлежности; формирование ценностей многонационального российского общества; становление гуманистических и демократических ценностных ориентаций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) формирование целостного, социально ориентированного взгляда на мир в его органичном единстве и разнообразии природы, народов, культур и религий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) формирование уважительного отношения к иному мнению, истории и культуре других народов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4)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&lt;…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.1.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Личностные результаты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воения программы НОО должны отражать готовность обучающихся руководствоваться ценностями и приобретение первоначального опыта деятельности на их основе, в том числе в част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41.1.1. Гражданско-патриотического воспитания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овление ценностного отношения к своей Родине - России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ознание своей этнокультурной и российской гражданской идентичности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причастность к прошлому, настоящему и будущему своей страны и родного края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важение к своему и другим народам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оначальные представления о человеке как члене общества, о правах и ответственности, уважении и достоинстве человека, о нравственно-этических нормах поведения и правилах межличностных отношени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buClr>
                          <a:srgbClr val="c00000"/>
                        </a:buClr>
                        <a:buFont typeface="Symbol" charset="2"/>
                        <a:buChar char="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духовно-нравственного воспитания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buClr>
                          <a:srgbClr val="c00000"/>
                        </a:buClr>
                        <a:buFont typeface="Symbol" charset="2"/>
                        <a:buChar char="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эстетического воспитания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buClr>
                          <a:srgbClr val="c00000"/>
                        </a:buClr>
                        <a:buFont typeface="Symbol" charset="2"/>
                        <a:buChar char="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физического воспитания, формирования культуры здоровья и эмоционального благополучия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buClr>
                          <a:srgbClr val="c00000"/>
                        </a:buClr>
                        <a:buFont typeface="Symbol" charset="2"/>
                        <a:buChar char="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трудового воспитания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buClr>
                          <a:srgbClr val="c00000"/>
                        </a:buClr>
                        <a:buFont typeface="Symbol" charset="2"/>
                        <a:buChar char="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экологического воспитания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buClr>
                          <a:srgbClr val="c00000"/>
                        </a:buClr>
                        <a:buFont typeface="Symbol" charset="2"/>
                        <a:buChar char="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ценности научного познания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50560" y="164880"/>
            <a:ext cx="9356760" cy="66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Trebuchet MS"/>
              </a:rPr>
              <a:t>                  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личительные особенности ФГОС-2021 </a:t>
            </a:r>
            <a:br>
              <a:rPr sz="2800"/>
            </a:br>
            <a:r>
              <a:rPr b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Метапредметные результаты</a:t>
            </a:r>
            <a:br>
              <a:rPr sz="2800"/>
            </a:b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.  42 ФГОС НОО, п. 43 ФГОС ООО</a:t>
            </a:r>
            <a:br>
              <a:rPr sz="1600"/>
            </a:br>
            <a:endParaRPr b="0" lang="en-US" sz="1600" spc="-1" strike="noStrike">
              <a:solidFill>
                <a:srgbClr val="ceb966"/>
              </a:solidFill>
              <a:latin typeface="Trebuchet MS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0" y="1287360"/>
          <a:ext cx="12192120" cy="5658120"/>
        </p:xfrm>
        <a:graphic>
          <a:graphicData uri="http://schemas.openxmlformats.org/drawingml/2006/table">
            <a:tbl>
              <a:tblPr/>
              <a:tblGrid>
                <a:gridCol w="4944960"/>
                <a:gridCol w="7247160"/>
              </a:tblGrid>
              <a:tr h="260640">
                <a:tc>
                  <a:txBody>
                    <a:bodyPr lIns="66960" rIns="66960" tIns="0" bIns="0" anchor="t">
                      <a:noAutofit/>
                    </a:bodyPr>
                    <a:p>
                      <a:pPr marL="457200"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ы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marL="457200"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а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561204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. Метапредметные результаты освоения ООП ООО должны отражать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) умение самостоятельно определять цели своего обучения, ставить и формулировать для себя новые задачи в учебе и познавательной деятельности, развивать мотивы и интересы своей познавательной деятельности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) умение самостоятельно планировать пути достижения целей, в том числе альтернативные, осознанно выбирать наиболее эффективные способы решения учебных и познавательных задач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) умение соотносить свои действия с планируемыми результатами, осуществлять контроль своей деятельности в процессе достижения результата, определять способы действий в рамках предложенных условий и требований, корректировать свои действия в соответствии с изменяющейся ситуацией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4)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&lt;…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.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етапредметные результаты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освоения программы ООО, в том числе адаптированной, должны отражать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.1. Овладение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универсальными учебными познавательными действиями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) базовые логические действия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) базовые исследовательские действия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) работа с информаци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.2. Овладение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универсальными учебными коммуникативными действиями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ние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местная деятельность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.3. Овладение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универсальными учебными регулятивными действиями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организация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контроль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моциональный интеллект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ятие себя и други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11206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Trebuchet MS"/>
              </a:rPr>
              <a:t>        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мерная основная образовательная программа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 основного общего образования </a:t>
            </a:r>
            <a:br>
              <a:rPr sz="2800"/>
            </a:br>
            <a:r>
              <a:rPr b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Метапредметные результаты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ой процедурой итоговой оценки достижения метапредметных результатов является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щита итогового индивидуального проекта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торая может рассматриваться как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пуск к  ГИА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случае заимствования текста работы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плагиата)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ез указания ссылок на источник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ект к защите не допускается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щита проекта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осуществляется в процессе специально организованной деятельности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миссии образовательной организации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ли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школьной конференции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зультаты выполнения проекта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цениваются по итогам рассмотрения комиссией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дставленного продукта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 краткой пояснительной запиской,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зентации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учающегося и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зыва руководителя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ceb9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50560" y="164880"/>
            <a:ext cx="9356760" cy="66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Trebuchet MS"/>
              </a:rPr>
              <a:t>                  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личительные особенности ФГОС-2021 </a:t>
            </a:r>
            <a:br>
              <a:rPr sz="2800"/>
            </a:br>
            <a:r>
              <a:rPr b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Предметные результаты</a:t>
            </a:r>
            <a:br>
              <a:rPr sz="2800"/>
            </a:b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.  43 ФГОС НОО, п. 44 ФГОС ООО</a:t>
            </a:r>
            <a:br>
              <a:rPr sz="1600"/>
            </a:br>
            <a:endParaRPr b="0" lang="en-US" sz="1600" spc="-1" strike="noStrike">
              <a:solidFill>
                <a:srgbClr val="ceb966"/>
              </a:solidFill>
              <a:latin typeface="Trebuchet MS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0" y="1287360"/>
          <a:ext cx="12192120" cy="6685200"/>
        </p:xfrm>
        <a:graphic>
          <a:graphicData uri="http://schemas.openxmlformats.org/drawingml/2006/table">
            <a:tbl>
              <a:tblPr/>
              <a:tblGrid>
                <a:gridCol w="4944960"/>
                <a:gridCol w="7247160"/>
              </a:tblGrid>
              <a:tr h="295200">
                <a:tc>
                  <a:txBody>
                    <a:bodyPr lIns="66960" rIns="66960" tIns="0" bIns="0" anchor="t">
                      <a:noAutofit/>
                    </a:bodyPr>
                    <a:p>
                      <a:pPr marL="457200"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ы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marL="457200"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а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639000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. Метапредметные результаты освоения ООП ООО должны отражать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) умение самостоятельно определять цели своего обучения, ставить и формулировать для себя новые задачи в учебе и познавательной деятельности, развивать мотивы и интересы своей познавательной деятельности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) умение самостоятельно планировать пути достижения целей, в том числе альтернативные, осознанно выбирать наиболее эффективные способы решения учебных и познавательных задач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) умение соотносить свои действия с планируемыми результатами, осуществлять контроль своей деятельности в процессе достижения результата, определять способы действий в рамках предложенных условий и требований, корректировать свои действия в соответствии с изменяющейся ситуацией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4)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&lt;…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.3. Предметные результаты по учебному предмету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"Иностранный язык"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ой области "Иностранный язык" должны быть ориентированы на применение знаний, умений и навыков в типичных учебных ситуациях и реальных жизненных условиях, отражать сформированность иноязычной коммуникативной компетенции на элементарном уровне в совокупности ее составляющих - речевой, языковой, социокультурной, компенсаторной, метапредметной (учебно-познавательной) и должны обеспечивать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…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ысловое чтение: читать вслух и понимать учебные и адаптированные аутентичные тексты объемом до 80 слов, построенные на изученном языковом материале, соблюдая правила чтения и правильную интонацию; читать про себя и понимать основное содержание учебных и адаптированных аутентичных текстов объемом до 160 слов, содержащих отдельные незнакомые слова, не препятствующие решению коммуникативной задачи; определять тему, главную мысль, назначение текста; извлекать из прочитанного текста запрашиваемую информацию фактического характера (в пределах изученного); читать несплошные тексты (простые таблицы) и понимать представленную в них информацию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сьменная речь: владеть техникой письма; заполнять простые анкеты и формуляры с указанием личной информации в соответствии с нормами, принятыми в стране/странах изучаемого языка; писать электронное сообщение личного характера объемом до 40 слов с опорой на предъявленный педагогическим работником образец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…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884240" y="299880"/>
            <a:ext cx="7390080" cy="10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личительные особенности ФГОС-2021  </a:t>
            </a:r>
            <a:endParaRPr b="0" lang="en-US" sz="28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601560" y="903240"/>
            <a:ext cx="9980640" cy="41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Федеральный закон от 29.12.2012 № 273-ФЗ «Об образовании в Российской Федерации»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buClr>
                <a:srgbClr val="ceb96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Rectangle 1"/>
          <p:cNvSpPr/>
          <p:nvPr/>
        </p:nvSpPr>
        <p:spPr>
          <a:xfrm>
            <a:off x="704880" y="1219680"/>
            <a:ext cx="1088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Calibri"/>
              </a:rPr>
              <a:t>статья 2. Образовательные про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3"/>
          <p:cNvSpPr/>
          <p:nvPr/>
        </p:nvSpPr>
        <p:spPr>
          <a:xfrm>
            <a:off x="704880" y="1785960"/>
            <a:ext cx="91789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2. При разработке основной общеобразовательной программы организация, осуществляющая образовательную деятельность,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праве предусмотреть применен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реализации соответствующей образовательной программы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мерного учебного план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(или)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мерного календарного учебного графи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 (или)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мерных рабочих програм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чебных предметов, курсов, дисциплин (модулей), включенных в соответствующую примерную основную общеобразовательную программу.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этом случае такая учебно-методическая документация не разрабатыв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часть 7.2 введена Федеральным законом от 02.07.2021 №322-ФЗ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1200" y="299880"/>
            <a:ext cx="8672760" cy="10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роки перехода на ФГОС-2021</a:t>
            </a:r>
            <a:endParaRPr b="0" lang="en-US" sz="28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310" name="Rectangle 1"/>
          <p:cNvSpPr/>
          <p:nvPr/>
        </p:nvSpPr>
        <p:spPr>
          <a:xfrm>
            <a:off x="704880" y="1371600"/>
            <a:ext cx="108806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оугольник 3"/>
          <p:cNvSpPr/>
          <p:nvPr/>
        </p:nvSpPr>
        <p:spPr>
          <a:xfrm>
            <a:off x="257040" y="1171440"/>
            <a:ext cx="971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о Министерства просвещения Российской Федерации от 15.02.2022 №АЗ-113/03 «О направлении методических рекомендаци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257040" y="2820960"/>
          <a:ext cx="9813960" cy="2290680"/>
        </p:xfrm>
        <a:graphic>
          <a:graphicData uri="http://schemas.openxmlformats.org/drawingml/2006/table">
            <a:tbl>
              <a:tblPr/>
              <a:tblGrid>
                <a:gridCol w="2536920"/>
                <a:gridCol w="824040"/>
                <a:gridCol w="772920"/>
                <a:gridCol w="720720"/>
                <a:gridCol w="735120"/>
                <a:gridCol w="798480"/>
                <a:gridCol w="876240"/>
                <a:gridCol w="836640"/>
                <a:gridCol w="811440"/>
                <a:gridCol w="901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2/2023 учебный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1c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1c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3/2024 учебный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4/2025 учебный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5b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5b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5b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5b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5b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5b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5b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5b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5bb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884240" y="299880"/>
            <a:ext cx="7390080" cy="10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роки перехода на ФГОС-2021</a:t>
            </a:r>
            <a:endParaRPr b="0" lang="en-US" sz="28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314" name="Rectangle 1"/>
          <p:cNvSpPr/>
          <p:nvPr/>
        </p:nvSpPr>
        <p:spPr>
          <a:xfrm>
            <a:off x="704880" y="1371600"/>
            <a:ext cx="108806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Прямоугольник 3"/>
          <p:cNvSpPr/>
          <p:nvPr/>
        </p:nvSpPr>
        <p:spPr>
          <a:xfrm>
            <a:off x="257040" y="1047600"/>
            <a:ext cx="10325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Calibri"/>
              </a:rPr>
              <a:t>Приказ Минпросвещения России от 31.05.2021 №286 «Об утверждении федерального государственного образовательного стандарта начального общего образовани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Прямоугольник 6"/>
          <p:cNvSpPr/>
          <p:nvPr/>
        </p:nvSpPr>
        <p:spPr>
          <a:xfrm>
            <a:off x="344520" y="2719440"/>
            <a:ext cx="9559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5e3c"/>
                </a:solidFill>
                <a:latin typeface="Times New Roman"/>
                <a:ea typeface="Times New Roman"/>
              </a:rPr>
              <a:t>пункт 2 приказов №286 и №287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ить, ч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ая организация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прав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ть в соответствии с ФГОС обучение лиц, зачисленных до вступления в силу настоящего приказа, -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 их соглас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овершеннолетних обучающихся,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численных до вступления в силу настоящего приказ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 согласия их родителей (законных представителе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Прямоугольник 7"/>
          <p:cNvSpPr/>
          <p:nvPr/>
        </p:nvSpPr>
        <p:spPr>
          <a:xfrm>
            <a:off x="257040" y="1882800"/>
            <a:ext cx="993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Calibri"/>
              </a:rPr>
              <a:t>Приказ Минпросвещения России от 31.05.2021 №287 «Об утверждении федерального государственного образовательного стандарта основного общего образовани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28640" y="256680"/>
            <a:ext cx="8820000" cy="64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щее  в ФГОС-2009/2010 и ФГОС-2021</a:t>
            </a:r>
            <a:endParaRPr b="0" lang="en-US" sz="28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78960" y="725400"/>
            <a:ext cx="9556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eb96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сновой организации образовательной деятельности в соответствии с обновленными ФГОС НОО и ФГОС ООО остается системно-деятельностный подход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eb96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охраняется привычная структура образовательной программы, рабочих программ и курсов внеурочной деятельност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eb96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стается неизменной структура требований к результатам реализации основных образовательных программ, состоящая из групп требований к предметным, метапредметным и личностным результатам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eb96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остижение комплексных образовательных результатов осуществляется посредством использования в образовательном процессе проектной деятельности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39560" y="2557080"/>
            <a:ext cx="7767720" cy="25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400"/>
            </a:br>
            <a:endParaRPr b="0" lang="en-US" sz="44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506240" y="4051080"/>
            <a:ext cx="77677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200" spc="-1" strike="noStrike">
              <a:solidFill>
                <a:srgbClr val="7f7f7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884240" y="609480"/>
            <a:ext cx="7390080" cy="7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личительные особенности ФГОС-2021  </a:t>
            </a:r>
            <a:endParaRPr b="0" lang="en-US" sz="28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858960" y="1157400"/>
            <a:ext cx="9361440" cy="48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Учебные планы начального общего и основного общего образования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590400" y="2292480"/>
          <a:ext cx="9630000" cy="3909960"/>
        </p:xfrm>
        <a:graphic>
          <a:graphicData uri="http://schemas.openxmlformats.org/drawingml/2006/table">
            <a:tbl>
              <a:tblPr/>
              <a:tblGrid>
                <a:gridCol w="3210120"/>
                <a:gridCol w="3209760"/>
                <a:gridCol w="3210120"/>
              </a:tblGrid>
              <a:tr h="97884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овень образо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ыл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ал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1620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овень начального общего образо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менее 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904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ов –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более 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345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ча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менее 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954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ов –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более 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190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ча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1310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овень основного общего образо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менее 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5267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часов –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более 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6020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менее 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5058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ов –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более 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5549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  <p:sp>
        <p:nvSpPr>
          <p:cNvPr id="239" name="Rectangle 1"/>
          <p:cNvSpPr/>
          <p:nvPr/>
        </p:nvSpPr>
        <p:spPr>
          <a:xfrm>
            <a:off x="809640" y="146448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) Изменилось общее количество часов за весь период обучения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884240" y="210600"/>
            <a:ext cx="739008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личительные особенности ФГОС-2021  </a:t>
            </a:r>
            <a:endParaRPr b="0" lang="en-US" sz="28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836280" y="791640"/>
            <a:ext cx="9745560" cy="52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Учебные планы начального общего и основного общего образовани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2" name="Rectangle 1"/>
          <p:cNvSpPr/>
          <p:nvPr/>
        </p:nvSpPr>
        <p:spPr>
          <a:xfrm>
            <a:off x="412920" y="1395360"/>
            <a:ext cx="10370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) Уточнены роль и место отдельных учебных предметов, а также их наимен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Родной язык и родная литература/литературное чтение на родном язы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. 32.1 ФГОС НО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. 33.1 ФГОС ОО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«для Организаций, в которых языком образования является русский язык, изучение родного языка и родной литературы из числа языков народов Российской Федерации, государственных языков республик Российской Федерации осуществляется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при наличии возможностей Организаци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по заявлению родителей (законных представителей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несовершеннолетних обучающихс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884240" y="200160"/>
            <a:ext cx="739008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личительные особенности ФГОС-2021  </a:t>
            </a:r>
            <a:endParaRPr b="0" lang="en-US" sz="28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01560" y="725400"/>
            <a:ext cx="998064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Учебный план основного общего образования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Rectangle 1"/>
          <p:cNvSpPr/>
          <p:nvPr/>
        </p:nvSpPr>
        <p:spPr>
          <a:xfrm>
            <a:off x="601560" y="1392120"/>
            <a:ext cx="9122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) Уточнены роль и место отдельных учебных предметов, а также их наимен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Второй иностранный язы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. 33.1 ФГОС ОО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«Изучение второго иностранного языка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из перечня, предлагаемого Организацие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, осуществляется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по заявлению обучающихся, родителей (законных представителей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совершеннолетних обучающихся и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при наличии в Организации необходимых условий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1200" y="188640"/>
            <a:ext cx="867276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личительные особенности ФГОС-2021  </a:t>
            </a:r>
            <a:endParaRPr b="0" lang="en-US" sz="28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01200" y="692280"/>
            <a:ext cx="9122040" cy="57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Учебный план основного общего образования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Rectangle 1"/>
          <p:cNvSpPr/>
          <p:nvPr/>
        </p:nvSpPr>
        <p:spPr>
          <a:xfrm>
            <a:off x="601560" y="1245600"/>
            <a:ext cx="10593360" cy="40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) Уточнены роль и место отдельных учебных предметов, а также их наимен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Матема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. 33.1 ФГОС ОО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ебный предмет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«Математика»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дметной области «Математика и информатика» включает в себя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учебные курс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                        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«Алгебра»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(7-9 классы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                       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«Геометрия»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(7-9 классы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                       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«Вероятность и статистика»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(7-9 класс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884240" y="382680"/>
            <a:ext cx="7390080" cy="82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ебно-методическое обеспечение</a:t>
            </a:r>
            <a:endParaRPr b="0" lang="en-US" sz="28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50" name="Rectangle 1"/>
          <p:cNvSpPr/>
          <p:nvPr/>
        </p:nvSpPr>
        <p:spPr>
          <a:xfrm>
            <a:off x="222120" y="1020240"/>
            <a:ext cx="9815760" cy="57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исьмо Министерства просвещения Российской Федерации от 11.11.2021 № 03-1899 «Об обеспечении учебными изданиями (учебниками и учебными пособиями) обучающихся в 2022/23 учебном году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«В период перехода на обновленные ФГОС-2021 могут быть использованы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любые учебно-методические комплекты, включенные в федеральный </a:t>
            </a:r>
            <a:r>
              <a:rPr b="0" lang="ru-RU" sz="2400" spc="-1" strike="noStrike" u="sng">
                <a:solidFill>
                  <a:srgbClr val="410082"/>
                </a:solidFill>
                <a:uFillTx/>
                <a:latin typeface="Times New Roman"/>
                <a:ea typeface="Calibri"/>
                <a:hlinkClick r:id="rId1"/>
              </a:rPr>
              <a:t>п</a:t>
            </a:r>
            <a:r>
              <a:rPr b="0" lang="ru-RU" sz="2400" spc="-1" strike="noStrike" u="sng">
                <a:solidFill>
                  <a:srgbClr val="410082"/>
                </a:solidFill>
                <a:uFillTx/>
                <a:latin typeface="Times New Roman"/>
                <a:ea typeface="Calibri"/>
                <a:hlinkClick r:id="rId2"/>
              </a:rPr>
              <a:t>еречень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* учебник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 При этом особое внимание должно быть уделено изменению методики преподавания учебных предметов при одновременном использовании дополнительных учебных, дидактических материалов, ориентированных на формирование предметных, метапредметных и личностных результато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*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каз Минпросвещения России от 20.05.2020 №254 "Об утверждении федерального перечня учебников, допущенных к использованию при реализации имеющих государственную аккредитацию образовательных программ начального общего, основного общего, среднего общего образования организациями, осуществляющими образовательную деятельность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884240" y="299880"/>
            <a:ext cx="7390080" cy="10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личительные особенности ФГОС-2021  </a:t>
            </a:r>
            <a:endParaRPr b="0" lang="en-US" sz="28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1560" y="902880"/>
            <a:ext cx="99806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Учебные планы начального общего и основного общего образовани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3" name="Rectangle 1"/>
          <p:cNvSpPr/>
          <p:nvPr/>
        </p:nvSpPr>
        <p:spPr>
          <a:xfrm>
            <a:off x="254160" y="1267560"/>
            <a:ext cx="1088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3) Предусмотрена дифференциация образования посредством введения профильного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0" y="2216160"/>
          <a:ext cx="11296800" cy="4641840"/>
        </p:xfrm>
        <a:graphic>
          <a:graphicData uri="http://schemas.openxmlformats.org/drawingml/2006/table">
            <a:tbl>
              <a:tblPr/>
              <a:tblGrid>
                <a:gridCol w="4836960"/>
                <a:gridCol w="6459840"/>
              </a:tblGrid>
              <a:tr h="68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овень начального общего обра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овень основного общего образ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395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20 ФГОС Н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образовательной деятельности по ООП НОО может быть основана на делении обучающихся на группы и различное построение учебного процесса в выделенных группах с учетом их успеваемости, образовательных потребностей и интересов, психического и физического здоровья, пола, общественных и профессиональных целей, в том числе обеспечивающей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углубленное изучение отдельных предметных областей, учебных предметов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далее - дифференциация обучени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5 ФГОС О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риативность содержания программ основного общего образования обеспечивается во ФГОС за счет: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) возможности разработки и реализации Организацией программ основного общего образования, в том числе предусматривающих углубленное изучение отдельных учебных предме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9 ФГОС О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бования к предметным результатам определяют: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бования к результатам освоения программ основного общего образования по учебным предметам «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Информатик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Физик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Химия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Биология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базовом и углубленном уровня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9-09T11:52:24Z</dcterms:created>
  <dc:creator>Tatyana Nikolaevna Solovjeva</dc:creator>
  <dc:description/>
  <dc:language>en-US</dc:language>
  <cp:lastModifiedBy>ИМО</cp:lastModifiedBy>
  <cp:lastPrinted>2022-03-23T14:30:43Z</cp:lastPrinted>
  <dcterms:modified xsi:type="dcterms:W3CDTF">2022-05-26T13:30:27Z</dcterms:modified>
  <cp:revision>174</cp:revision>
  <dc:subject/>
  <dc:title>Качество образования – приоритетная задача современной школы</dc:title>
</cp:coreProperties>
</file>