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12193588" cy="6858000"/>
  <p:notesSz cx="67929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67932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13"/>
          </p:nvPr>
        </p:nvSpPr>
        <p:spPr>
          <a:xfrm>
            <a:off x="384624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Img"/>
          </p:nvPr>
        </p:nvSpPr>
        <p:spPr>
          <a:xfrm>
            <a:off x="434520" y="1233360"/>
            <a:ext cx="5921640" cy="333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4"/>
          </p:nvPr>
        </p:nvSpPr>
        <p:spPr>
          <a:xfrm>
            <a:off x="0" y="937728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 type="sldNum" idx="15"/>
          </p:nvPr>
        </p:nvSpPr>
        <p:spPr>
          <a:xfrm>
            <a:off x="384624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5B78-504E-4ADE-8849-7DDA0BE4A6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B9B6-A98C-4F1F-9E6B-1E0923C45D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444A-F93F-48EE-8952-6DC42837CD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EE7A-4E2C-4E95-88F5-BD87C535AD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2BCD-8461-44A1-B298-05763A2EAA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A4C1-CFFA-45E0-9038-44D94F6007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4FB1-994E-43CA-832F-5BC5D26314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B736-C84B-407E-889E-5BA30F1265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6592-00E9-409F-9BB8-2D1BD3CFD1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CF16-F357-4898-B859-058C7EEDFC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E79B-B63C-454B-9838-0AC0B4C00C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6471-E09B-4E13-932B-569AF627D5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9AD6-C405-478F-B0F3-E5143D743D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6FA0-1346-4218-8227-50A5664954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906D-1E99-4630-BA43-5FE9F7F3D2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531E-C3DC-456D-8933-8E1B2AA4FF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8B20-35D4-47B6-9AA4-A4098EDD8B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A280-AFCF-414D-A6B5-81173051E6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DD50-1FF7-4F78-A93E-BF3937C327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F00E-8D9D-4E35-9DCD-AD91349EC6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4043-6224-456E-BB1C-9C6707EBBC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74C1-486F-4364-819D-E030BEC69D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7D44-A478-423A-864B-82F3BB296C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434880" y="1233360"/>
            <a:ext cx="5921640" cy="33321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240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3846600" y="9377280"/>
            <a:ext cx="2943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5163-0ECD-4992-BE05-6763EC05B3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DCBF-0692-404D-9D51-5069780B6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A597-61E7-4F21-91AA-772F7E5C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5F75-5328-4214-8B81-C0F5B509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0CCF-2E3B-45F9-951F-FE7AC8A6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66BA-7970-4AF8-A89A-947688A1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D947-5576-40B0-9500-6EB04E69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4D01-190A-40B2-BC0A-C68198BE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BF1E-38EE-4A3C-98B0-E8AB901B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FEC4-95B0-4247-B8E4-51D9D43A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FEA8-845D-4E57-844E-0ED2D1DE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ECFD-5E85-4F21-AD18-8A895685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5D16-FE07-486C-B88E-A6BFAC81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2873-291D-4AD9-9358-F824C08E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FC85-87EA-4B3E-BD49-C9A990ED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6606-72AF-46B0-A91D-C8D2FB50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D8D6-81E6-4CB6-A9A1-32017C201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68A2-900E-401B-B677-66D2AA8E7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828C0-2AA1-4423-BF91-A8D6C6EEE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4FE21-A2FB-448A-8BAB-6BF2D1AC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BD7C2-7183-426E-99DD-F5069C6F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D3B3B-23A8-4F1C-8C9F-45A15E1A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B6A96-21E2-4E04-987D-5F50A8F4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F94A-7506-46F3-92F7-225A43E9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2514E-45A7-410A-998D-0D919DB9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DE1C8-6F9B-4C0C-9986-B6FB04D7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BAE75-48E8-4EDA-A4AD-6EA259BC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0CBA4-26E5-4B4B-B127-135B5EAB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E9F69-9983-4F1B-AFA8-1DA8FE1A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C8A47-0A3C-438F-BCCD-F910B88B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3C320-EF6D-4941-841C-F3D0600B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45E5F-4326-4214-870A-532AEA045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203D5-158D-4298-8BFE-13E1AB26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0E982-24D0-4E61-BBDE-0647FA50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07BF-164D-41A0-9C66-606DEFD0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F4D00-08C6-471A-9179-BCCD8ACA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3B801-3221-4502-B05E-1FD7141E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E0085-E808-49EF-B37C-18763A94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A4109-AB06-4ED9-B384-1AED36DD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91C93-0B11-42BC-8AB5-6D1F1BEA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EC860-B8A6-4CB6-B533-24892FD3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4A79D-85A8-4CBC-BAF3-23B2FE8D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09798-FE81-4ABD-A954-03BE50E46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7D912-35AC-4B45-95A3-44C07745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2C59-63BF-4E8C-8AA6-1B448F29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F666-ADA8-4298-B2C1-8674EF45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6147-0B50-421B-A144-0E93B7FA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5AE1-7218-432A-BFF6-707788CB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0019-9ED6-4121-8F72-7193CFB1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ceb9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ceb9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9cb084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768d5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e2d5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ceb96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ceb96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ceb96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ceb9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A24D-A76F-4488-AD92-3F57B10A94FA}" type="slidenum">
              <a:rPr b="0" lang="ru-RU" sz="900" spc="-1" strike="noStrike">
                <a:solidFill>
                  <a:srgbClr val="ceb96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ceb9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ceb9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9cb084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768d5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e2d5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ceb96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ceb96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ceb96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64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ceb9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ceb9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9cb084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768d5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e2d5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ceb96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ceb96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ceb96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ceb9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3C05-166F-41C0-86EE-ABDEB4F99B0B}" type="slidenum">
              <a:rPr b="0" lang="ru-RU" sz="900" spc="-1" strike="noStrike">
                <a:solidFill>
                  <a:srgbClr val="ceb96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16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ceb9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ceb9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9cb084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768d5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e2d5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ceb96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ceb96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ceb96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2d5a3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2d5a3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ceb9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D495-870A-43DE-AC7E-0931BBC09DCA}" type="slidenum">
              <a:rPr b="0" lang="ru-RU" sz="900" spc="-1" strike="noStrike">
                <a:solidFill>
                  <a:srgbClr val="ceb96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70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ceb9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ceb9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9cb084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768d5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e2d5a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ceb96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ceb96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ceb96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2d5a3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2d5a3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ceb9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C78A-FBC7-49C7-9E0D-D65338271A2B}" type="slidenum">
              <a:rPr b="0" lang="ru-RU" sz="900" spc="-1" strike="noStrike">
                <a:solidFill>
                  <a:srgbClr val="ceb96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consultantplus://offline/ref=1D0F26EE847ABDC438AE7857713BA7127EF6403C08E45B9646AB34EF239DDFDDBAFB9FB0E2AF9626CC34AB32FFEDC5E12815ED0E5F3BD4FCZCwEK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edsoo.ru/Normativnie_dokumenti.htm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consultantplus://offline/ref=0A004D95D217700767940AEEDB60F2DF995F27D62EC43B97643BBD5D90954E2EC6436228DC2ACA03E0A1BE884A92305507C1656E3844086926QAN" TargetMode="External"/><Relationship Id="rId2" Type="http://schemas.openxmlformats.org/officeDocument/2006/relationships/hyperlink" Target="consultantplus://offline/ref=0A004D95D217700767940AEEDB60F2DF995F27D62EC43B97643BBD5D90954E2EC6436228DC2ACA03E0A1BE884A92305507C1656E3844086926QAN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74760" y="667800"/>
            <a:ext cx="671832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ние учебного плана в условиях перехода на новые федеральные государственные образовательные стандарты начального общего и основного общего образования</a:t>
            </a:r>
            <a:endParaRPr b="0" lang="en-US" sz="3600" spc="-1" strike="noStrike">
              <a:solidFill>
                <a:srgbClr val="ceb966"/>
              </a:solidFill>
              <a:latin typeface="Trebuchet MS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416400" y="6021360"/>
          <a:ext cx="4948200" cy="485640"/>
        </p:xfrm>
        <a:graphic>
          <a:graphicData uri="http://schemas.openxmlformats.org/drawingml/2006/table">
            <a:tbl>
              <a:tblPr/>
              <a:tblGrid>
                <a:gridCol w="4948200"/>
              </a:tblGrid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г.Твер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1560" y="902880"/>
            <a:ext cx="998064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е планы начального общего и основного общего образ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Rectangle 1"/>
          <p:cNvSpPr/>
          <p:nvPr/>
        </p:nvSpPr>
        <p:spPr>
          <a:xfrm>
            <a:off x="347760" y="1537560"/>
            <a:ext cx="1112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) Введено понятие «учебный модуль»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асть содержания образования, в пределах которой осуществляется освоение относительно самостоятельного тематического блока учебного предмета или учебного курса либо нескольких взаимосвязанных разде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81000" y="2570040"/>
          <a:ext cx="11296440" cy="4292640"/>
        </p:xfrm>
        <a:graphic>
          <a:graphicData uri="http://schemas.openxmlformats.org/drawingml/2006/table">
            <a:tbl>
              <a:tblPr/>
              <a:tblGrid>
                <a:gridCol w="5637240"/>
                <a:gridCol w="56592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начального обще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основного общего обра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65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2.1 ФГОС Н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изучении предметной област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сновы религиозных культур и светской этик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 одного из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чебных модуле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сновы православной культуры»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сновы исламской культуры»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сновы буддийской культуры»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сновы иудейской культуры»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сновы религиозных культур народов России»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сновы светской эти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3.1 ФГОС О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изучении предметной области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сновы духовно-нравственной культуры народов Росси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заявлению обучающихся, родителей (законных представителей) несовершеннолетних обучающихся осуществляется выбор одного из учебных курсов (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чебных модуле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из перечня, предлагаемого Организаци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884240" y="382680"/>
            <a:ext cx="739008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о-методическое обеспечение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60" name="Rectangle 1"/>
          <p:cNvSpPr/>
          <p:nvPr/>
        </p:nvSpPr>
        <p:spPr>
          <a:xfrm>
            <a:off x="257040" y="1063080"/>
            <a:ext cx="10036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еральный закон от 29.12.2012 № 273-ФЗ «Об образовании в Российской Федераци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Статья 18. Печатные и электронные образовательные и информационные ресур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4. Организации, осуществляющие образовательную деятельность по имеющим государственную аккредитацию образовательным программам начального общего, основного общего, среднего общего образования, для использования при реализации указанных образовательных программ выбир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)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учебник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числа входящих в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федеральный перечень учебн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допущенных к использованию при реализации имеющих государственную аккредитацию образовательных программ начального общего, основного общего, среднего обще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в ред. Федерального </a:t>
            </a:r>
            <a:r>
              <a:rPr b="0" lang="ru-RU" sz="2000" spc="-1" strike="noStrike" u="sng">
                <a:solidFill>
                  <a:srgbClr val="410082"/>
                </a:solidFill>
                <a:uFillTx/>
                <a:latin typeface="Times New Roman"/>
                <a:ea typeface="Calibri"/>
                <a:hlinkClick r:id="rId1"/>
              </a:rPr>
              <a:t>закона от 02.12.2019 № 403-Ф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)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учебные пособ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выпущенные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организациями, входящими в перечень организаций, осуществляющих выпуск учебных пособ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которые допускаются к использованию при реализации имеющих государственную аккредитацию образовательных программ начального общего, основного общего, среднего общего образова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01560" y="902880"/>
            <a:ext cx="9980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й план начального общего образ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Rectangle 1"/>
          <p:cNvSpPr/>
          <p:nvPr/>
        </p:nvSpPr>
        <p:spPr>
          <a:xfrm>
            <a:off x="254160" y="1267560"/>
            <a:ext cx="1088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5) Влияние санитарно-эпидемиологических нормативов на определение трудоемкости учебного предм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2"/>
          <p:cNvSpPr/>
          <p:nvPr/>
        </p:nvSpPr>
        <p:spPr>
          <a:xfrm>
            <a:off x="371520" y="2003400"/>
            <a:ext cx="1041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Calibri"/>
              </a:rPr>
              <a:t>Постановление Главного государственного санитарного врача РФ от 28.01.2021 №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Calibri"/>
              </a:rPr>
              <a:t>«Об утверждении санитарных правил и норм СанПиН 1.2.3685-21 "Гигиенические нормативы и требования к обеспечению безопасности и (или) безвредности для человека факторов среды обит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Таблица 6.6 Требования к организации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04920" y="3546360"/>
          <a:ext cx="10279080" cy="3338640"/>
        </p:xfrm>
        <a:graphic>
          <a:graphicData uri="http://schemas.openxmlformats.org/drawingml/2006/table">
            <a:tbl>
              <a:tblPr/>
              <a:tblGrid>
                <a:gridCol w="3409920"/>
                <a:gridCol w="1576440"/>
                <a:gridCol w="2722320"/>
                <a:gridCol w="2570400"/>
              </a:tblGrid>
              <a:tr h="1465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олжительность дневной суммарной образовательной нагрузки для обучающихся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бол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 включении в расписание занятий 2-х уроков физической культуры в недел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38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включении в расписание занятий 3-х уроков физической культуры в недел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урока и 1 раз в неделю - 5 урок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01560" y="902880"/>
            <a:ext cx="9980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е планы начального общего и основного общего образ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Rectangle 1"/>
          <p:cNvSpPr/>
          <p:nvPr/>
        </p:nvSpPr>
        <p:spPr>
          <a:xfrm>
            <a:off x="601560" y="1603440"/>
            <a:ext cx="1088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) Формы промежуточной аттес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3"/>
          <p:cNvSpPr/>
          <p:nvPr/>
        </p:nvSpPr>
        <p:spPr>
          <a:xfrm>
            <a:off x="601560" y="2481120"/>
            <a:ext cx="9872640" cy="40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исьмо Минпросвещения России №СК-228/03, Рособрнадзора №01-169/08-01 от 06.08.2021 «О направлении Рекомендаций» (вместе с «Рекомендациями для системы общего образования по основным подходам к формированию графика проведения оценочных процедур в общеобразовательных организациях в 2021/2022 учебном году»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исьмо Рособрнадзора от 22.03.2022 №01-28/08-01 «О переносе сроков проведения ВПР в общеобразовательных организациях в 2022 году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исьмо Рособрнадзора от 22.03.2022 №01-31/08-01 (дополнение к письму Рособрнадзора от 22.03.2022 №1-28/08-0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1560" y="902880"/>
            <a:ext cx="9980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е планы начального общего и основного общего образ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Rectangle 1"/>
          <p:cNvSpPr/>
          <p:nvPr/>
        </p:nvSpPr>
        <p:spPr>
          <a:xfrm>
            <a:off x="601560" y="1356480"/>
            <a:ext cx="90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7) Разработка и реализация индивидуальных учебных пл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3"/>
          <p:cNvSpPr/>
          <p:nvPr/>
        </p:nvSpPr>
        <p:spPr>
          <a:xfrm>
            <a:off x="485640" y="1925640"/>
            <a:ext cx="978084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еральный закон от 29.12.2012 № 273-ФЗ «Об образовании в Российской Федераци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Calibri"/>
              </a:rPr>
              <a:t>статья 2. Основные понятия, используемые в настоящем Федеральном зак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3)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индивидуальный учебный план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учебный план, обеспечивающий освоение образовательной программы на основе индивидуализации ее содержания с учетом особенностей и образовательных потребностей конкретного обучающего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0" y="3530520"/>
          <a:ext cx="12192120" cy="3506760"/>
        </p:xfrm>
        <a:graphic>
          <a:graphicData uri="http://schemas.openxmlformats.org/drawingml/2006/table">
            <a:tbl>
              <a:tblPr/>
              <a:tblGrid>
                <a:gridCol w="4389480"/>
                <a:gridCol w="7802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начального обще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основного обще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86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17 ФГОС Н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получения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ачального общего образова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ставляет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е более 4 ле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лиц, обучающихся по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ндивидуальным учебным плана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срок получения начального общего образования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ожет быть сокращен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17 ФГОС О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получения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сновного общего образования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яет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е более 5 ле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бучающихся с ОВЗ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бучении по адаптированным программам основного общего образования, независимо от применяемых образовательных технологий, срок получения основного общего образования может быть увеличен, но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не более чем до 6 ле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лиц, обучающихся по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ндивидуальным учебным плана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срок получения основного общего образования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ожет быть сокращен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01560" y="902880"/>
            <a:ext cx="9980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Рабочие программ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285840" y="1498680"/>
          <a:ext cx="10961640" cy="5359320"/>
        </p:xfrm>
        <a:graphic>
          <a:graphicData uri="http://schemas.openxmlformats.org/drawingml/2006/table">
            <a:tbl>
              <a:tblPr/>
              <a:tblGrid>
                <a:gridCol w="5479920"/>
                <a:gridCol w="5481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начального обще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основного обще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4716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1.1 ФГОС Н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2.1 ФГОС О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чие программы учебных предметов, учебных курсов (в том числе внеурочной деятельности), учебных модулей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олжны включать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го предмета, учебного курса (в том числе внеурочной деятельности), учебного модул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планируемые результаты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оения учебного предмета, учебного курса (в том числе внеурочной деятельности), учебного модул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тематическое планировани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указанием </a:t>
                      </a:r>
                      <a:r>
                        <a:rPr b="1" i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количества академических часов, отводимых на освоение каждой темы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го предмета, учебного курса (в том числе внеурочной деятельности), учебного модуля и </a:t>
                      </a:r>
                      <a:r>
                        <a:rPr b="1" i="1" lang="ru-RU" sz="22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возможность использования по этой теме электронных (цифровых) образовательных ресурсов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вляющихся учебно-методическими материалами (мультимедийные программы, электронные учебники и задачники, электронные библиотеки, виртуальные лаборатории, игровые программы, коллекции цифровых образовательных ресурсов), используемыми для обучения и воспитания различных групп пользователей, представленными в электронном (цифровом) виде и реализующими дидактические возможности ИКТ, содержание которых соответствует законодательству об образован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</a:t>
            </a:r>
            <a:br>
              <a:rPr sz="2800"/>
            </a:b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мерные рабочие программы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ttps://edsoo.ru/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ceb966"/>
              </a:solidFill>
              <a:latin typeface="Trebuchet MS"/>
            </a:endParaRPr>
          </a:p>
        </p:txBody>
      </p:sp>
      <p:pic>
        <p:nvPicPr>
          <p:cNvPr id="279" name="Рисунок 1" descr=""/>
          <p:cNvPicPr/>
          <p:nvPr/>
        </p:nvPicPr>
        <p:blipFill>
          <a:blip r:embed="rId1"/>
          <a:stretch/>
        </p:blipFill>
        <p:spPr>
          <a:xfrm>
            <a:off x="5486400" y="1089000"/>
            <a:ext cx="4745160" cy="576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0" name=""/>
          <p:cNvGraphicFramePr/>
          <p:nvPr/>
        </p:nvGraphicFramePr>
        <p:xfrm>
          <a:off x="250920" y="1089000"/>
          <a:ext cx="5327640" cy="4846680"/>
        </p:xfrm>
        <a:graphic>
          <a:graphicData uri="http://schemas.openxmlformats.org/drawingml/2006/table">
            <a:tbl>
              <a:tblPr/>
              <a:tblGrid>
                <a:gridCol w="2878200"/>
                <a:gridCol w="244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ОП Н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ОП О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448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тературное чт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остранны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ружающий м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К и С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зы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З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9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т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остранны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фор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то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ществозн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еограф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им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и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зы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З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9ea"/>
                    </a:solidFill>
                  </a:tcPr>
                </a:tc>
              </a:tr>
            </a:tbl>
          </a:graphicData>
        </a:graphic>
      </p:graphicFrame>
      <p:sp>
        <p:nvSpPr>
          <p:cNvPr id="281" name="Прямоугольник 4"/>
          <p:cNvSpPr/>
          <p:nvPr/>
        </p:nvSpPr>
        <p:spPr>
          <a:xfrm>
            <a:off x="0" y="5934240"/>
            <a:ext cx="637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граммы разработаны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Родной язык/литератур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торой иностранный язык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(проек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стадии разработки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- ОДНК НР, программы углублен.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</a:t>
            </a:r>
            <a:br>
              <a:rPr sz="2800"/>
            </a:b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мерные рабочие программы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ttps://edsoo.ru/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Уровень начального общего образования</a:t>
            </a:r>
            <a:br>
              <a:rPr sz="1800"/>
            </a:br>
            <a:br>
              <a:rPr sz="3200"/>
            </a:br>
            <a:br>
              <a:rPr sz="3200"/>
            </a:br>
            <a:br>
              <a:rPr sz="2400"/>
            </a:br>
            <a:endParaRPr b="0" lang="en-US" sz="2400" spc="-1" strike="noStrike">
              <a:solidFill>
                <a:srgbClr val="ceb966"/>
              </a:solidFill>
              <a:latin typeface="Trebuchet MS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330200" y="1657440"/>
          <a:ext cx="7593120" cy="5337000"/>
        </p:xfrm>
        <a:graphic>
          <a:graphicData uri="http://schemas.openxmlformats.org/drawingml/2006/table">
            <a:tbl>
              <a:tblPr/>
              <a:tblGrid>
                <a:gridCol w="3962520"/>
                <a:gridCol w="909720"/>
                <a:gridCol w="909720"/>
                <a:gridCol w="911160"/>
                <a:gridCol w="900000"/>
              </a:tblGrid>
              <a:tr h="42696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предм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часов за учебный г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31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3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тературное чт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31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дно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87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тературное чтение на родном язы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31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остранны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3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31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кружающий м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87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ы религиозных культур и светской э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3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образительное искус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31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зы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31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30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зическая 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50920" y="164880"/>
            <a:ext cx="10152000" cy="66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</a:t>
            </a:r>
            <a:br>
              <a:rPr sz="2800"/>
            </a:b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мерные рабочие программы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ttps://edsoo.ru/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Уровень основного общего образования</a:t>
            </a:r>
            <a:br>
              <a:rPr sz="1800"/>
            </a:br>
            <a:br>
              <a:rPr sz="3200"/>
            </a:br>
            <a:br>
              <a:rPr sz="3200"/>
            </a:br>
            <a:br>
              <a:rPr sz="2400"/>
            </a:br>
            <a:endParaRPr b="0" lang="en-US" sz="24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85" name="Прямоугольник 3"/>
          <p:cNvSpPr/>
          <p:nvPr/>
        </p:nvSpPr>
        <p:spPr>
          <a:xfrm>
            <a:off x="6870600" y="3191040"/>
            <a:ext cx="367524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 (7-9 классы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ебра – по 102 ча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я – по 68 ча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оятность и статистика – по 34 час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420840" y="1622520"/>
          <a:ext cx="6281640" cy="5302080"/>
        </p:xfrm>
        <a:graphic>
          <a:graphicData uri="http://schemas.openxmlformats.org/drawingml/2006/table">
            <a:tbl>
              <a:tblPr/>
              <a:tblGrid>
                <a:gridCol w="2197080"/>
                <a:gridCol w="820440"/>
                <a:gridCol w="901800"/>
                <a:gridCol w="785880"/>
                <a:gridCol w="905040"/>
                <a:gridCol w="671400"/>
              </a:tblGrid>
              <a:tr h="228600">
                <a:tc rowSpan="2"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предм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gridSpan="5"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ичество часов за учебный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24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дно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дная литератур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остранны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2824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24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4092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2824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2860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зическая 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261720">
                <a:tc>
                  <a:txBody>
                    <a:bodyPr lIns="48600" rIns="486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48600" rIns="486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72240">
                <a:tc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К Н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gridSpan="5">
                  <a:txBody>
                    <a:bodyPr lIns="48600" rIns="4860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ная рабочая программа в стадии разрабо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600" marR="48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образовательные программы</a:t>
            </a:r>
            <a:br>
              <a:rPr sz="2800"/>
            </a:br>
            <a:br>
              <a:rPr sz="2800"/>
            </a:br>
            <a:r>
              <a:rPr b="1" lang="ru-RU" sz="2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имерные основные образовательные программы</a:t>
            </a:r>
            <a:br>
              <a:rPr sz="2800"/>
            </a:br>
            <a:br>
              <a:rPr sz="2800"/>
            </a:br>
            <a:r>
              <a:rPr b="0" lang="ru-RU" sz="2000" spc="-1" strike="noStrike" u="sng">
                <a:solidFill>
                  <a:srgbClr val="410082"/>
                </a:solidFill>
                <a:uFillTx/>
                <a:latin typeface="Times New Roman"/>
                <a:ea typeface="Times New Roman"/>
                <a:hlinkClick r:id="rId1"/>
              </a:rPr>
              <a:t>https://edsoo.ru/Normativnie_dokumenti.htm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ная основная образовательная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грамма начального общего образования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ная основная образовательная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грамма начального общего образования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(протокол ФУМО от 18.03.2022 №1/22)</a:t>
            </a:r>
            <a:br>
              <a:rPr sz="2000"/>
            </a:b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рные основные образовательные программ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мещены в Федеральном реестр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рных основных общеобразовательных программ </a:t>
            </a: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ttps://fgosreestr.ru</a:t>
            </a:r>
            <a:endParaRPr b="0" lang="en-US" sz="3200" spc="-1" strike="noStrike">
              <a:solidFill>
                <a:srgbClr val="ceb966"/>
              </a:solidFill>
              <a:latin typeface="Trebuchet MS"/>
            </a:endParaRPr>
          </a:p>
        </p:txBody>
      </p:sp>
      <p:pic>
        <p:nvPicPr>
          <p:cNvPr id="288" name="Рисунок 3" descr=""/>
          <p:cNvPicPr/>
          <p:nvPr/>
        </p:nvPicPr>
        <p:blipFill>
          <a:blip r:embed="rId2"/>
          <a:srcRect l="34761" t="14992" r="10908" b="4460"/>
          <a:stretch/>
        </p:blipFill>
        <p:spPr>
          <a:xfrm>
            <a:off x="6170760" y="1496880"/>
            <a:ext cx="413064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58560" y="261720"/>
            <a:ext cx="7940520" cy="82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рмативно-правовое обеспечение.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56760" y="858960"/>
            <a:ext cx="11363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еральный закон от 29.12.2012 № 273-ФЗ «Об образовании в Российской Федерации» 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buClr>
                <a:srgbClr val="0d0d0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иказ Министерства просвещения Российской Федерации от         31.05.2021 № 286 «Об утверждении федерального государственного образовательного стандарта начального общего образования»;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buClr>
                <a:srgbClr val="0d0d0d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иказ Министерства просвещения Российской Федерации от 31.05.2021 № 287 «Об утверждении федерального государственного образовательного стандарта основного общего образования»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buClr>
                <a:srgbClr val="40404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мерная ООП НОО.Одобрена решением федерального учебно-методического объединения по общему образованию, протокол от 18 марта 2022 г. № 1/22.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buClr>
                <a:srgbClr val="40404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мерная ООП ООО.Одобрена решением федерального учебно-методического объединения по общему образованию, протокол от 18 марта 2022 г. № 1/22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rebuchet MS"/>
              </a:rPr>
              <a:t>СанПиН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7040" y="299880"/>
            <a:ext cx="10125360" cy="6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аптированная основная образовательная программа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01560" y="902880"/>
            <a:ext cx="9980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бучение детей с ограниченными возможностями здоровь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Rectangle 1"/>
          <p:cNvSpPr/>
          <p:nvPr/>
        </p:nvSpPr>
        <p:spPr>
          <a:xfrm>
            <a:off x="601560" y="1327320"/>
            <a:ext cx="1088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еральный закон от 29.12.2012 № 273-ФЗ «Об образовании в Российской Федераци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статья 2. Основные понятия, используемые в настоящем Федеральном зако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3"/>
          <p:cNvSpPr/>
          <p:nvPr/>
        </p:nvSpPr>
        <p:spPr>
          <a:xfrm>
            <a:off x="601560" y="2481120"/>
            <a:ext cx="9178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)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даптированная образовательная программ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разовательная программа, адаптированная для обучения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ц с ограниченными возможностями здоровь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четом особенностей их психофизического развития, индивидуальных возможностей и при необходимости обеспечивающая коррекцию нарушений развития и социальную адаптацию указанных л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аптированная основная образовательная программа</a:t>
            </a:r>
            <a:br>
              <a:rPr sz="2800"/>
            </a:br>
            <a:br>
              <a:rPr sz="2800"/>
            </a:b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бучение детей с ограниченными возможностями здоровья</a:t>
            </a: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ceb966"/>
              </a:solidFill>
              <a:latin typeface="Trebuchet MS"/>
            </a:endParaRPr>
          </a:p>
        </p:txBody>
      </p:sp>
      <p:pic>
        <p:nvPicPr>
          <p:cNvPr id="294" name="Таблица 4" descr=""/>
          <p:cNvPicPr/>
          <p:nvPr/>
        </p:nvPicPr>
        <p:blipFill>
          <a:blip r:embed="rId1"/>
          <a:stretch/>
        </p:blipFill>
        <p:spPr>
          <a:xfrm>
            <a:off x="176040" y="1847880"/>
            <a:ext cx="10236240" cy="3462480"/>
          </a:xfrm>
          <a:prstGeom prst="rect">
            <a:avLst/>
          </a:prstGeom>
          <a:ln w="0">
            <a:noFill/>
          </a:ln>
        </p:spPr>
      </p:pic>
      <p:sp>
        <p:nvSpPr>
          <p:cNvPr id="295" name="Прямоугольник 6"/>
          <p:cNvSpPr/>
          <p:nvPr/>
        </p:nvSpPr>
        <p:spPr>
          <a:xfrm>
            <a:off x="250920" y="5408640"/>
            <a:ext cx="1046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На уровне начального общего образования реализуется ФГОС НОО ОВЗ, утвержденный приказом Минобрнауки России от 19.12.2014  №15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аптированная основная образовательная программа</a:t>
            </a:r>
            <a:br>
              <a:rPr sz="2800"/>
            </a:b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бучение детей с ограниченными возможностями здоровья</a:t>
            </a:r>
            <a:br>
              <a:rPr sz="2800"/>
            </a:br>
            <a:br>
              <a:rPr sz="2800"/>
            </a:b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Уровень основного общего образовани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 33.1 ФГОС ООО</a:t>
            </a:r>
            <a:br>
              <a:rPr sz="2000"/>
            </a:br>
            <a:br>
              <a:rPr sz="2400"/>
            </a:br>
            <a:br>
              <a:rPr sz="2800"/>
            </a:br>
            <a:endParaRPr b="0" lang="en-US" sz="2000" spc="-1" strike="noStrike">
              <a:solidFill>
                <a:srgbClr val="ceb966"/>
              </a:solidFill>
              <a:latin typeface="Trebuchet MS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50920" y="2171880"/>
          <a:ext cx="9896400" cy="4698720"/>
        </p:xfrm>
        <a:graphic>
          <a:graphicData uri="http://schemas.openxmlformats.org/drawingml/2006/table">
            <a:tbl>
              <a:tblPr/>
              <a:tblGrid>
                <a:gridCol w="3057480"/>
                <a:gridCol w="6838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учающиеся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можные изменения в учебный пл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хие и слабослышащ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сключен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з обязательных для изучения учебных предметов учебного предмета «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узык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хие и слабослышащие, с ТН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включен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 предметную область «Русский язык и литература» обязательного для изучения учебного предмета «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Развитие реч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хие и слабослышащие, с ТНР, с Н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сроков и продолжительности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я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ностранного язы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обучающиеся с ОВ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лючение учебного предмета «Физическая культура» и включение учебного предмета «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Адаптивная физическая культур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</a:t>
            </a:r>
            <a:br>
              <a:rPr sz="2800"/>
            </a:b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Личностные результаты</a:t>
            </a:r>
            <a:br>
              <a:rPr sz="2800"/>
            </a:b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.  41 ФГОС НОО, п. 42 ФГОС ООО</a:t>
            </a:r>
            <a:br>
              <a:rPr sz="1600"/>
            </a:br>
            <a:endParaRPr b="0" lang="en-US" sz="1600" spc="-1" strike="noStrike">
              <a:solidFill>
                <a:srgbClr val="ceb966"/>
              </a:solidFill>
              <a:latin typeface="Trebuchet MS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0" y="1287360"/>
          <a:ext cx="12192120" cy="5570640"/>
        </p:xfrm>
        <a:graphic>
          <a:graphicData uri="http://schemas.openxmlformats.org/drawingml/2006/table">
            <a:tbl>
              <a:tblPr/>
              <a:tblGrid>
                <a:gridCol w="4687920"/>
                <a:gridCol w="7504200"/>
              </a:tblGrid>
              <a:tr h="295200">
                <a:tc>
                  <a:txBody>
                    <a:bodyPr lIns="66960" rIns="669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ы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2754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 Личностные результаты освоения ООП НОО должны отража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) формирование основ российской гражданской идентичности, чувства гордости за свою Родину, российский народ и историю России, осознание своей этнической и национальной принадлежности; формирование ценностей многонационального российского общества; становление гуманистических и демократических ценностных ориентац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) формирование целостного, социально ориентированного взгляда на мир в его органичном единстве и разнообразии природы, народов, культур и религи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) формирование уважительного отношения к иному мнению, истории и культуре других народов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)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&lt;…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.1.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Личностные результаты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оения программы НОО должны отражать готовность обучающихся руководствоваться ценностями и приобретение первоначального опыта деятельности на их основе, в том числе в ча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1.1.1. Гражданско-патриотического воспитани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овление ценностного отношения к своей Родине - Росси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знание своей этнокультурной и российской гражданской идентичност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причастность к прошлому, настоящему и будущему своей страны и родного кра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ажение к своему и другим народам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начальные представления о человеке как члене общества, о правах и ответственности, уважении и достоинстве человека, о нравственно-этических нормах поведения и правилах межличностных отношен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c00000"/>
                        </a:buClr>
                        <a:buFont typeface="Symbol" charset="2"/>
                        <a:buChar char="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духовно-нравственного воспита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c00000"/>
                        </a:buClr>
                        <a:buFont typeface="Symbol" charset="2"/>
                        <a:buChar char="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эстетического воспита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c00000"/>
                        </a:buClr>
                        <a:buFont typeface="Symbol" charset="2"/>
                        <a:buChar char="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физического воспитания, формирования культуры здоровья и эмоционального благополуч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c00000"/>
                        </a:buClr>
                        <a:buFont typeface="Symbol" charset="2"/>
                        <a:buChar char="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трудового воспита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c00000"/>
                        </a:buClr>
                        <a:buFont typeface="Symbol" charset="2"/>
                        <a:buChar char="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экологического воспитани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c00000"/>
                        </a:buClr>
                        <a:buFont typeface="Symbol" charset="2"/>
                        <a:buChar char="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ценности научного познани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</a:t>
            </a:r>
            <a:br>
              <a:rPr sz="2800"/>
            </a:b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Метапредметные результаты</a:t>
            </a:r>
            <a:br>
              <a:rPr sz="2800"/>
            </a:b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.  42 ФГОС НОО, п. 43 ФГОС ООО</a:t>
            </a:r>
            <a:br>
              <a:rPr sz="1600"/>
            </a:br>
            <a:endParaRPr b="0" lang="en-US" sz="1600" spc="-1" strike="noStrike">
              <a:solidFill>
                <a:srgbClr val="ceb966"/>
              </a:solidFill>
              <a:latin typeface="Trebuchet MS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0" y="1287360"/>
          <a:ext cx="12192120" cy="5658120"/>
        </p:xfrm>
        <a:graphic>
          <a:graphicData uri="http://schemas.openxmlformats.org/drawingml/2006/table">
            <a:tbl>
              <a:tblPr/>
              <a:tblGrid>
                <a:gridCol w="4944960"/>
                <a:gridCol w="7247160"/>
              </a:tblGrid>
              <a:tr h="260640">
                <a:tc>
                  <a:txBody>
                    <a:bodyPr lIns="66960" rIns="669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ы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6120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 Метапредметные результаты освоения ООП ООО должны отража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) умение самостоятельно определять цели своего обучения, ставить и формулировать для себя новые задачи в учебе и познавательной деятельности, развивать мотивы и интересы своей познавательной деятельност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) умение самостоятельно планировать пути достижения целей, в том числе альтернативные, осознанно выбирать наиболее эффективные способы решения учебных и познавательных задач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) умение соотносить свои действия с планируемыми результатами, осуществлять контроль своей деятельности в процессе достижения результата, определять способы действий в рамках предложенных условий и требований, корректировать свои действия в соответствии с изменяющейся ситуацие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)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&lt;…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етапредметные результаты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своения программы ООО, в том числе адаптированной, должны отражать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1. Овладение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ниверсальными учебными познавательными действиям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базовые логические действи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базовые исследовательские действи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работа с информаци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2. Овладение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ниверсальными учебными коммуникативными действиям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ни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местная деятельнос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3. Овладение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ниверсальными учебными регулятивными действиям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организаци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контроль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оциональный интеллект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себя и друг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11206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рная основная образовательная программа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основного общего образования </a:t>
            </a:r>
            <a:br>
              <a:rPr sz="2800"/>
            </a:b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Метапредметные результаты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ой процедурой итоговой оценки достижения метапредметных результатов является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щита итогового индивидуального проекта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торая может рассматриваться как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пуск к  ГИА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лучае заимствования текста работы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плагиата)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 указания ссылок на источник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ект к защите не допускается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щита проекта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осуществляется в процессе специально организованной деятельности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иссии образовательной организации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ли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школьной конференции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зультаты выполнения проекта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цениваются по итогам рассмотрения комиссией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ставленного продукта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краткой пояснительной запиской,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зентации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учающегося и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зыва руководителя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ceb9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0560" y="164880"/>
            <a:ext cx="9356760" cy="66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rebuchet MS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</a:t>
            </a:r>
            <a:br>
              <a:rPr sz="2800"/>
            </a:b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едметные результаты</a:t>
            </a:r>
            <a:br>
              <a:rPr sz="2800"/>
            </a:b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.  43 ФГОС НОО, п. 44 ФГОС ООО</a:t>
            </a:r>
            <a:br>
              <a:rPr sz="1600"/>
            </a:br>
            <a:endParaRPr b="0" lang="en-US" sz="1600" spc="-1" strike="noStrike">
              <a:solidFill>
                <a:srgbClr val="ceb966"/>
              </a:solidFill>
              <a:latin typeface="Trebuchet MS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0" y="1287360"/>
          <a:ext cx="12192120" cy="6685200"/>
        </p:xfrm>
        <a:graphic>
          <a:graphicData uri="http://schemas.openxmlformats.org/drawingml/2006/table">
            <a:tbl>
              <a:tblPr/>
              <a:tblGrid>
                <a:gridCol w="4944960"/>
                <a:gridCol w="7247160"/>
              </a:tblGrid>
              <a:tr h="295200">
                <a:tc>
                  <a:txBody>
                    <a:bodyPr lIns="66960" rIns="669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ы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639000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 Метапредметные результаты освоения ООП ООО должны отража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) умение самостоятельно определять цели своего обучения, ставить и формулировать для себя новые задачи в учебе и познавательной деятельности, развивать мотивы и интересы своей познавательной деятельност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) умение самостоятельно планировать пути достижения целей, в том числе альтернативные, осознанно выбирать наиболее эффективные способы решения учебных и познавательных задач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) умение соотносить свои действия с планируемыми результатами, осуществлять контроль своей деятельности в процессе достижения результата, определять способы действий в рамках предложенных условий и требований, корректировать свои действия в соответствии с изменяющейся ситуацией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)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&lt;…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.3. Предметные результаты по учебному предмету </a:t>
                      </a: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"Иностранный язык"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й области "Иностранный язык" должны быть ориентированы на применение знаний, умений и навыков в типичных учебных ситуациях и реальных жизненных условиях, отражать сформированность иноязычной коммуникативной компетенции на элементарном уровне в совокупности ее составляющих - речевой, языковой, социокультурной, компенсаторной, метапредметной (учебно-познавательной) и должны обеспечива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…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ысловое чтение: читать вслух и понимать учебные и адаптированные аутентичные тексты объемом до 80 слов, построенные на изученном языковом материале, соблюдая правила чтения и правильную интонацию; читать про себя и понимать основное содержание учебных и адаптированных аутентичных текстов объемом до 160 слов, содержащих отдельные незнакомые слова, не препятствующие решению коммуникативной задачи; определять тему, главную мысль, назначение текста; извлекать из прочитанного текста запрашиваемую информацию фактического характера (в пределах изученного); читать несплошные тексты (простые таблицы) и понимать представленную в них информацию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сьменная речь: владеть техникой письма; заполнять простые анкеты и формуляры с указанием личной информации в соответствии с нормами, принятыми в стране/странах изучаемого языка; писать электронное сообщение личного характера объемом до 40 слов с опорой на предъявленный педагогическим работником образец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…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01560" y="903240"/>
            <a:ext cx="9980640" cy="4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еральный закон от 29.12.2012 № 273-ФЗ «Об образовании в Российской Федерации»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buClr>
                <a:srgbClr val="ceb96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Rectangle 1"/>
          <p:cNvSpPr/>
          <p:nvPr/>
        </p:nvSpPr>
        <p:spPr>
          <a:xfrm>
            <a:off x="704880" y="1219680"/>
            <a:ext cx="1088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статья 2. Образовательные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3"/>
          <p:cNvSpPr/>
          <p:nvPr/>
        </p:nvSpPr>
        <p:spPr>
          <a:xfrm>
            <a:off x="704880" y="1785960"/>
            <a:ext cx="9178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2. При разработке основной общеобразовательной программы организация, осуществляющая образовательную деятельность,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праве предусмотреть примен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еализации соответствующей образовательной программы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ного учебного пла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(или)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ного календарного учебного граф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(или)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ных рабочих програм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ебных предметов, курсов, дисциплин (модулей), включенных в соответствующую примерную основную общеобразовательную программу.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этом случае такая учебно-методическая документация не разрабаты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асть 7.2 введена Федеральным законом от 02.07.2021 №322-Ф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1200" y="299880"/>
            <a:ext cx="867276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оки перехода на ФГОС-2021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10" name="Rectangle 1"/>
          <p:cNvSpPr/>
          <p:nvPr/>
        </p:nvSpPr>
        <p:spPr>
          <a:xfrm>
            <a:off x="704880" y="1371600"/>
            <a:ext cx="10880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3"/>
          <p:cNvSpPr/>
          <p:nvPr/>
        </p:nvSpPr>
        <p:spPr>
          <a:xfrm>
            <a:off x="257040" y="1171440"/>
            <a:ext cx="971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 Министерства просвещения Российской Федерации от 15.02.2022 №АЗ-113/03 «О направлении методических рекомендац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57040" y="2820960"/>
          <a:ext cx="9813960" cy="2290680"/>
        </p:xfrm>
        <a:graphic>
          <a:graphicData uri="http://schemas.openxmlformats.org/drawingml/2006/table">
            <a:tbl>
              <a:tblPr/>
              <a:tblGrid>
                <a:gridCol w="2536920"/>
                <a:gridCol w="824040"/>
                <a:gridCol w="772920"/>
                <a:gridCol w="720720"/>
                <a:gridCol w="735120"/>
                <a:gridCol w="798480"/>
                <a:gridCol w="876240"/>
                <a:gridCol w="836640"/>
                <a:gridCol w="811440"/>
                <a:gridCol w="901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/2023 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1c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1c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3/2024 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d0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4/2025 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75bb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оки перехода на ФГОС-2021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14" name="Rectangle 1"/>
          <p:cNvSpPr/>
          <p:nvPr/>
        </p:nvSpPr>
        <p:spPr>
          <a:xfrm>
            <a:off x="704880" y="1371600"/>
            <a:ext cx="10880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3"/>
          <p:cNvSpPr/>
          <p:nvPr/>
        </p:nvSpPr>
        <p:spPr>
          <a:xfrm>
            <a:off x="257040" y="1047600"/>
            <a:ext cx="1032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Приказ Минпросвещения России от 31.05.2021 №286 «Об утверждении федерального государственного образовательного стандарта начального общего образова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6"/>
          <p:cNvSpPr/>
          <p:nvPr/>
        </p:nvSpPr>
        <p:spPr>
          <a:xfrm>
            <a:off x="344520" y="2719440"/>
            <a:ext cx="9559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f5e3c"/>
                </a:solidFill>
                <a:latin typeface="Times New Roman"/>
                <a:ea typeface="Times New Roman"/>
              </a:rPr>
              <a:t>пункт 2 приказов №286 и №28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ить, ч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организаци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прав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ть в соответствии с ФГОС обучение лиц, зачисленных до вступления в силу настоящего приказа, -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их соглас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вершеннолетних обучающихся,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численных до вступления в силу настоящего приказ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согласия их родителей (законных представител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7"/>
          <p:cNvSpPr/>
          <p:nvPr/>
        </p:nvSpPr>
        <p:spPr>
          <a:xfrm>
            <a:off x="257040" y="1882800"/>
            <a:ext cx="993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Приказ Минпросвещения России от 31.05.2021 №287 «Об утверждении федерального государственного образовательного стандарта основного общего образова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28640" y="256680"/>
            <a:ext cx="8820000" cy="6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щее  в ФГОС-2009/2010 и ФГОС-2021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78960" y="725400"/>
            <a:ext cx="9556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новой организации образовательной деятельности в соответствии с обновленными ФГОС НОО и ФГОС ООО остается системно-деятельностный подход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храняется привычная структура образовательной программы, рабочих программ и курсов внеурочной деятельност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тается неизменной структура требований к результатам реализации основных образовательных программ, состоящая из групп требований к предметным, метапредметным и личностным результатам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eb96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стижение комплексных образовательных результатов осуществляется посредством использования в образовательном процессе проектной деятельност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39560" y="2557080"/>
            <a:ext cx="776772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endParaRPr b="0" lang="en-US" sz="44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7f7f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884240" y="609480"/>
            <a:ext cx="739008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58960" y="1157400"/>
            <a:ext cx="9361440" cy="48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е планы начального общего и основного общего образования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590400" y="2292480"/>
          <a:ext cx="9630000" cy="3909960"/>
        </p:xfrm>
        <a:graphic>
          <a:graphicData uri="http://schemas.openxmlformats.org/drawingml/2006/table">
            <a:tbl>
              <a:tblPr/>
              <a:tblGrid>
                <a:gridCol w="3210120"/>
                <a:gridCol w="3209760"/>
                <a:gridCol w="3210120"/>
              </a:tblGrid>
              <a:tr h="9788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образ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ы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162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начального общего образ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ен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904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ов –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бол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345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ча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ен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954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ов –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бол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190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ча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31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основного общего образ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ен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267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часов –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бол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020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ен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058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ов –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более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549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  <p:sp>
        <p:nvSpPr>
          <p:cNvPr id="239" name="Rectangle 1"/>
          <p:cNvSpPr/>
          <p:nvPr/>
        </p:nvSpPr>
        <p:spPr>
          <a:xfrm>
            <a:off x="809640" y="146448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) Изменилось общее количество часов за весь период обучения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84240" y="210600"/>
            <a:ext cx="739008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36280" y="791640"/>
            <a:ext cx="9745560" cy="52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е планы начального общего и основного общего образ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Rectangle 1"/>
          <p:cNvSpPr/>
          <p:nvPr/>
        </p:nvSpPr>
        <p:spPr>
          <a:xfrm>
            <a:off x="412920" y="1395360"/>
            <a:ext cx="10370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) Уточнены роль и место отдельных учебных предметов, а также их наимен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Родной язык и родная литература/литературное чтение на родном язы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. 32.1 ФГОС Н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. 33.1 ФГОС О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для Организаций, в которых языком образования является русский язык, изучение родного языка и родной литературы из числа языков народов Российской Федерации, государственных языков республик Российской Федерации осуществля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и наличии возможностей Организаци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 заявлению родителей (законных представителей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есовершеннолетних обучающих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884240" y="200160"/>
            <a:ext cx="739008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1560" y="725400"/>
            <a:ext cx="998064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й план основного общего образования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Rectangle 1"/>
          <p:cNvSpPr/>
          <p:nvPr/>
        </p:nvSpPr>
        <p:spPr>
          <a:xfrm>
            <a:off x="601560" y="1392120"/>
            <a:ext cx="9122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) Уточнены роль и место отдельных учебных предметов, а также их наимен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Второй иностранный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. 33.1 ФГОС О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Изучение второго иностранного языка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из перечня, предлагаемого Организаци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осуществля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 заявлению обучающихся, родителей (законных представителей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совершеннолетних обучающихся 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и наличии в Организации необходимых услови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1200" y="188640"/>
            <a:ext cx="86727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01200" y="692280"/>
            <a:ext cx="9122040" cy="57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й план основного общего образования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Rectangle 1"/>
          <p:cNvSpPr/>
          <p:nvPr/>
        </p:nvSpPr>
        <p:spPr>
          <a:xfrm>
            <a:off x="601560" y="1245600"/>
            <a:ext cx="1059336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) Уточнены роль и место отдельных учебных предметов, а также их наимен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Мате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. 33.1 ФГОС О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бный предмет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«Математика»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метной области «Математика и информатика» включает в себя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учебные курс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                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«Алгебра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7-9 классы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               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«Геометрия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7-9 классы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               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«Вероятность и статистика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7-9 класс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884240" y="382680"/>
            <a:ext cx="739008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бно-методическое обеспечение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50" name="Rectangle 1"/>
          <p:cNvSpPr/>
          <p:nvPr/>
        </p:nvSpPr>
        <p:spPr>
          <a:xfrm>
            <a:off x="222120" y="1020240"/>
            <a:ext cx="9815760" cy="57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сьмо Министерства просвещения Российской Федерации от 11.11.2021 № 03-1899 «Об обеспечении учебными изданиями (учебниками и учебными пособиями) обучающихся в 2022/23 учебном году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В период перехода на обновленные ФГОС-2021 могут быть использованы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любые учебно-методические комплекты, включенные в федеральный </a:t>
            </a: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ea typeface="Calibri"/>
                <a:hlinkClick r:id="rId1"/>
              </a:rPr>
              <a:t>п</a:t>
            </a: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ea typeface="Calibri"/>
                <a:hlinkClick r:id="rId2"/>
              </a:rPr>
              <a:t>еречень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* учебник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При этом особое внимание должно быть уделено изменению методики преподавания учебных предметов при одновременном использовании дополнительных учебных, дидактических материалов, ориентированных на формирование предметных, метапредметных и личностных результат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*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каз Минпросвещения России от 20.05.2020 №254 "Об утверждении федерального перечня учебников, допущенных к использованию при реализации имеющих государственную аккредитацию образовательных программ начального общего, основного общего, среднего общего образования организациями, осуществляющими образовательную деятельность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884240" y="299880"/>
            <a:ext cx="7390080" cy="10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личительные особенности ФГОС-2021  </a:t>
            </a:r>
            <a:endParaRPr b="0" lang="en-US" sz="2800" spc="-1" strike="noStrike">
              <a:solidFill>
                <a:srgbClr val="ceb96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1560" y="902880"/>
            <a:ext cx="9980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Учебные планы начального общего и основного общего образования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Rectangle 1"/>
          <p:cNvSpPr/>
          <p:nvPr/>
        </p:nvSpPr>
        <p:spPr>
          <a:xfrm>
            <a:off x="254160" y="1267560"/>
            <a:ext cx="1088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) Предусмотрена дифференциация образования посредством введения профиль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0" y="2216160"/>
          <a:ext cx="11296800" cy="4641840"/>
        </p:xfrm>
        <a:graphic>
          <a:graphicData uri="http://schemas.openxmlformats.org/drawingml/2006/table">
            <a:tbl>
              <a:tblPr/>
              <a:tblGrid>
                <a:gridCol w="4836960"/>
                <a:gridCol w="6459840"/>
              </a:tblGrid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начального обще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ень основного общего обра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95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0 ФГОС Н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образовательной деятельности по ООП НОО может быть основана на делении обучающихся на группы и различное построение учебного процесса в выделенных группах с учетом их успеваемости, образовательных потребностей и интересов, психического и физического здоровья, пола, общественных и профессиональных целей, в том числе обеспечивающей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углубленное изучение отдельных предметных областей, учебных предмето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далее - дифференциация обучен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5 ФГОС О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тивность содержания программ основного общего образования обеспечивается во ФГОС за счет: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возможности разработки и реализации Организацией программ основного общего образования, в том числе предусматривающих углубленное изучение отдельных учебных предме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9 ФГОС О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ования к предметным результатам определяют: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ования к результатам освоения программ основного общего образования по учебным предметам «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базовом и углубленном уровн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09T11:52:24Z</dcterms:created>
  <dc:creator>Tatyana Nikolaevna Solovjeva</dc:creator>
  <dc:description/>
  <dc:language>en-US</dc:language>
  <cp:lastModifiedBy>ИМО</cp:lastModifiedBy>
  <cp:lastPrinted>2022-03-23T14:30:43Z</cp:lastPrinted>
  <dcterms:modified xsi:type="dcterms:W3CDTF">2022-05-26T13:30:27Z</dcterms:modified>
  <cp:revision>174</cp:revision>
  <dc:subject/>
  <dc:title>Качество образования – приоритетная задача современной школы</dc:title>
</cp:coreProperties>
</file>