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793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4624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434520" y="1233360"/>
            <a:ext cx="592164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937728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4624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8805-199F-42C5-9BAB-89641B79B0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9FFD-BE14-4E7B-ADE7-0E5219D1BC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0159-5C64-41E7-A855-D799FD5187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5F1F-C582-442E-B992-6EF93E93A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B2C2-E308-4B7B-B780-735855B801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15D3-E1D6-4E98-A5F4-21D468CA2B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04F1-5B0F-46BB-B7D2-310A8D7072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6A17-A77C-47AA-A7C7-72CE663922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F20F-A351-4746-8CC1-94AF19FFF9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A892-1935-4619-882A-223E15C8EB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4604-A8B8-41D3-A2F7-C4A43BEB02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2242-A51C-4B5A-ACD7-1DAC20CA4F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A48A-CF80-426A-9B44-677DEF4C03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BFE5-14EF-4CCC-86DC-0581FB208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9CC3-5AD7-442E-87D3-0D4489903A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1EB5-C79A-4689-A774-905E43229A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5A95-E453-4D4A-8E09-358E7604E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48A1-B213-464C-B356-BECDAC2254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D94E-1285-4E92-B524-D72284097E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9561-C6FB-4981-B3E0-A38770C75F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1B07-AAAB-4930-9C73-1417653861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468B-0928-480C-9DEE-36742B7EB6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663E-CED5-4E05-87D6-533F5291FB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13BB-92CF-435F-812B-C3159A4F34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A7B-B205-4559-B99B-8DAB92FD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ADA-5962-4C3E-8D3F-0E2D5F5B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4D6-228D-4688-A42B-40E59CF3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E57-A96D-4F24-A9C4-2199A31D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DB27-D764-45E2-9244-505809A5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D050-25C1-49BD-892B-1E64BE8A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BD5D-9B83-48C1-8029-0F92A403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3BB7-9C9C-4B53-9F0B-7D743FE3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C0F0-C79F-4E7C-A963-914B1727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E806-6CDF-4929-AAF0-3FD40DEB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E59A-0637-41DD-AC6D-2851A81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95F-21DA-42CF-9E8A-6A94DC91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BC60-9848-4DCD-A5D7-4A4A9968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4207-0EA0-4830-B02C-813EA706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CE65-1ADD-41DA-9541-494BF1B4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6A19-170D-4798-87FF-F6D1BBD7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0C42-59E2-41F8-BC27-3E98E991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4C7D-E6D4-452B-A8D1-3F5CEEF0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9C06-010A-4FB5-B68C-F83159B9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3BE3-D5B3-4493-B837-EF59904E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8416-DE14-4381-9E95-55B50A1F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BB79-E842-44D0-84F2-CA759EFD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242-8C83-4A0F-AAB8-82D9FFC0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8560-5CC8-4E9F-8003-D1B66564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4F31-BDB9-4EFC-B11A-3C38F593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AB51-9177-4D8F-8890-123E038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0130-1FD0-4E9B-80AA-4C3C27B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4112-F87B-4044-B7CA-2D88B09F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1840-E8FD-4D07-88A0-83A8F56E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6DF6-FEFC-483E-A2B3-5B545B5A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76F4-3534-40C0-85A7-3C993169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EEB3-9CFC-40B1-A3B7-F4F12887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C47B-210A-4DE9-92F1-028B8820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484-8DD8-48DD-AE97-95E0DB46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B098-D44A-4645-835A-4C683ABF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1873-2E07-4C4F-BB31-8EF5EE02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4057-7DDB-4AC8-BADD-AD3997D4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9193-6611-4695-B930-E7D34416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D62D-E6CB-45F2-97AA-96FC1A2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C85A-78B1-4DDC-9932-5327BB5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F8F6A-2923-4BA5-8F13-D43666DD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5135-93A9-4C17-97D2-DB28DE57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15E5F-3425-4350-A3DA-93F77F1F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8ED-570C-47E2-BADC-B88422CC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891-5DB5-4227-A668-C6E9F9EF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0D0-D9DF-42A0-8AA8-A10EE33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66E-AAEF-4D2F-A90E-7E52503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F57-CAE0-465A-9CB2-BE31479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E9F6-FA98-47F6-9FD2-3EE1A388FC69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A86-3C7D-413B-88CB-61E6DACCCA59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0B86-6620-437D-8956-C4354F8DBC7C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2CE-B7BC-4A20-BDB4-F2CD834460A9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D0F26EE847ABDC438AE7857713BA7127EF6403C08E45B9646AB34EF239DDFDDBAFB9FB0E2AF9626CC34AB32FFEDC5E12815ED0E5F3BD4FCZCwEK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dsoo.ru/Normativnie_dokumenti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2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4760" y="667800"/>
            <a:ext cx="67183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чебного плана в условиях перехода на новые федеральные государственные образовательные стандарты начального общего и основного общего образования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416400" y="6021360"/>
          <a:ext cx="4948200" cy="485640"/>
        </p:xfrm>
        <a:graphic>
          <a:graphicData uri="http://schemas.openxmlformats.org/drawingml/2006/table">
            <a:tbl>
              <a:tblPr/>
              <a:tblGrid>
                <a:gridCol w="49482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г.Тве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1560" y="902880"/>
            <a:ext cx="99806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347760" y="1537560"/>
            <a:ext cx="111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ведено понятие «учебный модуль»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содержания образования, в пределах которой осуществляется освоение относительно самостоятельного тематического блока учебного предмета или учебного курса либо нескольких взаимосвязанных разде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1000" y="2570040"/>
          <a:ext cx="11296440" cy="4292640"/>
        </p:xfrm>
        <a:graphic>
          <a:graphicData uri="http://schemas.openxmlformats.org/drawingml/2006/table">
            <a:tbl>
              <a:tblPr/>
              <a:tblGrid>
                <a:gridCol w="5637240"/>
                <a:gridCol w="5659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одного из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православн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слам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буддий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удейской культуры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религиозных культур народов России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светской э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3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духовно-нравственной культуры народов Росс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явлению обучающихся, родителей (законных представителей) несовершеннолетних обучающихся осуществляется выбор одного из учебных курсов (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з перечня, предлагаемого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57040" y="1063080"/>
            <a:ext cx="10036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18. Печатные и электронные образовательные и 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4. Организации, осуществляющие образовательную деятельность по имеющим государственную аккредитацию образовательным программам начального общего, основного общего, среднего общего образования, для использования при реализации указанных образовательных программ выбир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числа входящих в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федеральный перечень учеб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в ред. Федерального </a:t>
            </a: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закона от 02.12.2019 № 403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пособ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ыпущенны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ганизациями, входящими в перечень организаций, осуществляющих выпуск учебных пособ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ые допускаются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началь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Влияние санитарно-эпидемиологических нормативов на определение трудоемкости учебн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371520" y="2003400"/>
            <a:ext cx="104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становление Главного государственного санитарного врача РФ от 28.01.2021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«Об утверждении санитарных правил и норм СанПиН 1.2.3685-21 "Гигиенические нормативы и требования к обеспечению безопасности и (или) безвредности для человека факторов среды обит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лица 6.6 Требования к организац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04920" y="3546360"/>
          <a:ext cx="10279080" cy="3338640"/>
        </p:xfrm>
        <a:graphic>
          <a:graphicData uri="http://schemas.openxmlformats.org/drawingml/2006/table">
            <a:tbl>
              <a:tblPr/>
              <a:tblGrid>
                <a:gridCol w="3409920"/>
                <a:gridCol w="1576440"/>
                <a:gridCol w="2722320"/>
                <a:gridCol w="2570400"/>
              </a:tblGrid>
              <a:tr h="1465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ельность дневной суммарной образовательной нагрузки для обучающихс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2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3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урока и 1 раз в неделю - 5 уро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01560" y="1603440"/>
            <a:ext cx="1088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Формы промежуточ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601560" y="2481120"/>
            <a:ext cx="987264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Минпросвещения России №СК-228/03, Рособрнадзора №01-169/08-01 от 06.08.2021 «О направлении Рекомендаций» (вместе с «Рекомендациями для системы общего образования по основным подходам к формированию графика проведения оценочных процедур в общеобразовательных организациях в 2021/2022 учебном году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28/08-01 «О переносе сроков проведения ВПР в общеобразовательных организациях в 2022 год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31/08-01 (дополнение к письму Рособрнадзора от 22.03.2022 №1-28/08-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1560" y="13564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) Разработка и реализация индивидуальных учеб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85640" y="1925640"/>
            <a:ext cx="978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3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ндивидуальный учебный пл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ебный план, обеспечивающий освоение образовательной программы на основе индивидуализации ее содержания с учетом особенностей и образовательных потребностей конкретного 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3530520"/>
          <a:ext cx="12192120" cy="3506760"/>
        </p:xfrm>
        <a:graphic>
          <a:graphicData uri="http://schemas.openxmlformats.org/drawingml/2006/table">
            <a:tbl>
              <a:tblPr/>
              <a:tblGrid>
                <a:gridCol w="4389480"/>
                <a:gridCol w="7802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8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чального общего образова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4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началь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ого общего образован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5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учающихся с ОВЗ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бучении по адаптированным программам основного общего образования, независимо от применяемых образовательных технологий, срок получения основного общего образования может быть увеличен, н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чем до 6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основ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чие програм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85840" y="1498680"/>
          <a:ext cx="10961640" cy="5359320"/>
        </p:xfrm>
        <a:graphic>
          <a:graphicData uri="http://schemas.openxmlformats.org/drawingml/2006/table">
            <a:tbl>
              <a:tblPr/>
              <a:tblGrid>
                <a:gridCol w="5479920"/>
                <a:gridCol w="5481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71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1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рограммы учебных предметов, учебных курсов (в том числе внеурочной деятельности), учебных модул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лжны включа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матическое планирова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казанием 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а академических часов, отводимых на освоение каждой тем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 и </a:t>
                      </a:r>
                      <a:r>
                        <a:rPr b="1" i="1" lang="ru-RU" sz="22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можность использования по этой теме электронных (цифровых) образовательных ресурс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ющихся учебно-методическими материалами (мультимедийные программы, электронные учебники и задачники, электронные библиотеки, виртуальные лаборатории, игровые программы, коллекции цифровых образовательных ресурсов), используемыми для обучения и воспитания различных групп пользователей, представленными в электронном (цифровом) виде и реализующими дидактические возможности ИКТ, содержание которых соответствует законодательству об образова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79" name="Рисунок 1" descr=""/>
          <p:cNvPicPr/>
          <p:nvPr/>
        </p:nvPicPr>
        <p:blipFill>
          <a:blip r:embed="rId1"/>
          <a:stretch/>
        </p:blipFill>
        <p:spPr>
          <a:xfrm>
            <a:off x="5486400" y="1089000"/>
            <a:ext cx="4745160" cy="57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50920" y="1089000"/>
          <a:ext cx="5327640" cy="4846680"/>
        </p:xfrm>
        <a:graphic>
          <a:graphicData uri="http://schemas.openxmlformats.org/drawingml/2006/table">
            <a:tbl>
              <a:tblPr/>
              <a:tblGrid>
                <a:gridCol w="2878200"/>
                <a:gridCol w="24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К и С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</a:tr>
            </a:tbl>
          </a:graphicData>
        </a:graphic>
      </p:graphicFrame>
      <p:sp>
        <p:nvSpPr>
          <p:cNvPr id="281" name="Прямоугольник 4"/>
          <p:cNvSpPr/>
          <p:nvPr/>
        </p:nvSpPr>
        <p:spPr>
          <a:xfrm>
            <a:off x="0" y="5934240"/>
            <a:ext cx="63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работан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дной язык/литера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торой иностранный язы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ро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адии разработ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ОДНК НР, программы углублен.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началь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330200" y="1657440"/>
          <a:ext cx="7593120" cy="5337000"/>
        </p:xfrm>
        <a:graphic>
          <a:graphicData uri="http://schemas.openxmlformats.org/drawingml/2006/table">
            <a:tbl>
              <a:tblPr/>
              <a:tblGrid>
                <a:gridCol w="3962520"/>
                <a:gridCol w="909720"/>
                <a:gridCol w="909720"/>
                <a:gridCol w="911160"/>
                <a:gridCol w="9000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 на родном я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бразительное искус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164880"/>
            <a:ext cx="1015200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6870600" y="3191040"/>
            <a:ext cx="36752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(7-9 классы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– по 102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 – по 68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 – по 34 ча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20840" y="1622520"/>
          <a:ext cx="6281640" cy="5302080"/>
        </p:xfrm>
        <a:graphic>
          <a:graphicData uri="http://schemas.openxmlformats.org/drawingml/2006/table">
            <a:tbl>
              <a:tblPr/>
              <a:tblGrid>
                <a:gridCol w="2197080"/>
                <a:gridCol w="820440"/>
                <a:gridCol w="901800"/>
                <a:gridCol w="785880"/>
                <a:gridCol w="905040"/>
                <a:gridCol w="671400"/>
              </a:tblGrid>
              <a:tr h="228600">
                <a:tc rowSpan="2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ая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092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6172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2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К 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ая рабочая программа в стадии раз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образовательные программы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основные образовательные программы</a:t>
            </a:r>
            <a:br>
              <a:rPr sz="2800"/>
            </a:br>
            <a:br>
              <a:rPr sz="2800"/>
            </a:b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s://edsoo.ru/Normativnie_dokumenti.htm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(протокол ФУМО от 18.03.2022 №1/22)</a:t>
            </a:r>
            <a:br>
              <a:rPr sz="20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е основные образовательные програм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мещены в Федеральном реестр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х основных общеобразовательных программ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fgosreestr.ru</a:t>
            </a: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88" name="Рисунок 3" descr=""/>
          <p:cNvPicPr/>
          <p:nvPr/>
        </p:nvPicPr>
        <p:blipFill>
          <a:blip r:embed="rId2"/>
          <a:srcRect l="34761" t="14992" r="10908" b="4460"/>
          <a:stretch/>
        </p:blipFill>
        <p:spPr>
          <a:xfrm>
            <a:off x="6170760" y="1496880"/>
            <a:ext cx="4130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261720"/>
            <a:ext cx="794052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рмативно-правовое обеспечение.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6760" y="858960"/>
            <a:ext cx="11363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        31.05.2021 № 286 «Об утверждении федерального государственного образовательного стандарта начального общего образования»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31.05.2021 № 287 «Об утверждении федерального государственного образовательного стандарта основного общего образования»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НОО.Одобрена решением федерального учебно-методического объединения по общему образованию, протокол от 18 марта 2022 г. № 1/22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ООО.Одобрена решением федерального учебно-методического объединения по общему образованию, протокол от 18 марта 2022 г. № 1/22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rebuchet MS"/>
              </a:rPr>
              <a:t>СанПи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7040" y="299880"/>
            <a:ext cx="1012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601560" y="1327320"/>
            <a:ext cx="1088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601560" y="2481120"/>
            <a:ext cx="917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ц с ограниченными возможностями здоровь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94" name="Таблица 4" descr=""/>
          <p:cNvPicPr/>
          <p:nvPr/>
        </p:nvPicPr>
        <p:blipFill>
          <a:blip r:embed="rId1"/>
          <a:stretch/>
        </p:blipFill>
        <p:spPr>
          <a:xfrm>
            <a:off x="176040" y="1847880"/>
            <a:ext cx="10236240" cy="34624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50920" y="5408640"/>
            <a:ext cx="104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уровне начального общего образования реализуется ФГОС НОО ОВЗ, утвержденный приказом Минобрнауки России от 19.12.2014  №15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33.1 ФГОС ООО</a:t>
            </a:r>
            <a:br>
              <a:rPr sz="20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50920" y="2171880"/>
          <a:ext cx="9896400" cy="4698720"/>
        </p:xfrm>
        <a:graphic>
          <a:graphicData uri="http://schemas.openxmlformats.org/drawingml/2006/table">
            <a:tbl>
              <a:tblPr/>
              <a:tblGrid>
                <a:gridCol w="3057480"/>
                <a:gridCol w="683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ающие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е изменения в учеб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с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 обязательных для изучения учебных предметов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предметную область «Русский язык и литература» обязательного для изучения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витие реч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, с Н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оков и продолжительност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я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остранного я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бучающиеся 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ение учебного предмета «Физическая культура» и включение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даптивная физическая 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ичнос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1 ФГОС НОО, п. 42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87360"/>
          <a:ext cx="12192120" cy="5570640"/>
        </p:xfrm>
        <a:graphic>
          <a:graphicData uri="http://schemas.openxmlformats.org/drawingml/2006/table">
            <a:tbl>
              <a:tblPr/>
              <a:tblGrid>
                <a:gridCol w="4687920"/>
                <a:gridCol w="750420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2754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Личностные результаты освоения ООП Н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формирование основ российской гражданской идентичности, чувства гордости за свою Родину, российский народ и историю России, осознание своей этнической и национальной принадлежности; формирование ценностей многонационального российского общества; становление гуманистических и демократических ценностных ориен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формирование целостного, социально ориентированного взгляда на мир в его органичном единстве и разнообразии природы, народов, культур и религ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формирование уважительного отношения к иному мнению, истории и культуре других народо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1.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ичностные результа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программы НОО должны отражать готовность обучающихся руководствоваться ценностями и приобретение первоначального опыта деятельности на их основе, в том числе в ча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1.1.1. Гражданско-патриотического воспит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ие ценностного отношения к своей Родине - Росс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ние своей этнокультурной и российской гражданской идентич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ичастность к прошлому, настоящему и будущему своей страны и родного кра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 к своему и другим народ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е представления о человеке как члене общества, о правах и ответственности, уважении и достоинстве человека, о нравственно-этических нормах поведения и правилах межличностных отнош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уховно-нравственн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стет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ческого воспитания, формирования культуры здоровья и эмоционального благополуч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удов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колог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ности научного позн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2 ФГОС НОО, п. 43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1287360"/>
          <a:ext cx="12192120" cy="565812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6064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612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своения программы ООО, в том числе адаптированной, должны отража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1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познаватель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азовые логические действ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базовые исследовательские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работа с информ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коммуника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ая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регуля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рганизац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интеллек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ебя и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1120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ная основная образовательная программ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основного общего образования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процедурой итоговой оценки достижения метапредметных результатов являет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итогового индивидуального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ая может рассматриваться ка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уск к  ГИ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е заимствования текста работ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лагиата)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указания ссылок на источни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к защите не допускаетс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уществляется в процессе специально организованной деятельност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ссии образовательной организ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школьной конференц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выполнения прое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ются по итогам рассмотрения комиссией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енного проду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раткой пояснительной запиской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егося 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зыва руководител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3 ФГОС НОО, п. 44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1287360"/>
          <a:ext cx="12192120" cy="668520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390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Предметные результаты по учебному предмету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"Иностранный язык"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й области "Иностранный язык" должны быть ориентированы на применение знаний, умений и навыков в типичных учебных ситуациях и реальных жизненных условиях, отражать сформированность иноязычной коммуникативной компетенции на элементарном уровне в совокупности ее составляющих - речевой, языковой, социокультурной, компенсаторной, метапредметной (учебно-познавательной) и должны обеспечи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ое чтение: читать вслух и понимать учебные и адаптированные аутентичные тексты объемом до 80 слов, построенные на изученном языковом материале, соблюдая правила чтения и правильную интонацию; читать про себя и понимать основное содержание учебных и адаптированных аутентичных текстов объемом до 160 слов, содержащих отдельные незнакомые слова, не препятствующие решению коммуникативной задачи; определять тему, главную мысль, назначение текста; извлекать из прочитанного текста запрашиваемую информацию фактического характера (в пределах изученного); читать несплошные тексты (простые таблицы) и понимать представленную в них информац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ая речь: владеть техникой письма; заполнять простые анкеты и формуляры с указанием личной информации в соответствии с нормами, принятыми в стране/странах изучаемого языка; писать электронное сообщение личного характера объемом до 40 слов с опорой на предъявленный педагогическим работником образе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01560" y="903240"/>
            <a:ext cx="99806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04880" y="1219680"/>
            <a:ext cx="108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704880" y="1785960"/>
            <a:ext cx="9178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. При разработке основной общеобразовательной программы организация, осуществляющая образовательную деятельность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предусмотреть примен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соответствующей образовательной программ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календарного учебного граф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х рабочи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х предметов, курсов, дисциплин (модулей), включенных в соответствующую примерную основную общеобразовательную программу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этом случае такая учебно-методическая документация не разрабат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7.2 введена Федеральным законом от 02.07.2021 №32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1200" y="299880"/>
            <a:ext cx="867276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257040" y="1171440"/>
            <a:ext cx="971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просвещения Российской Федерации от 15.02.2022 №АЗ-113/03 «О направлении методических рекоменда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7040" y="2820960"/>
          <a:ext cx="9813960" cy="2290680"/>
        </p:xfrm>
        <a:graphic>
          <a:graphicData uri="http://schemas.openxmlformats.org/drawingml/2006/table">
            <a:tbl>
              <a:tblPr/>
              <a:tblGrid>
                <a:gridCol w="2536920"/>
                <a:gridCol w="824040"/>
                <a:gridCol w="772920"/>
                <a:gridCol w="720720"/>
                <a:gridCol w="735120"/>
                <a:gridCol w="798480"/>
                <a:gridCol w="876240"/>
                <a:gridCol w="836640"/>
                <a:gridCol w="811440"/>
                <a:gridCol w="90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/2023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/2024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/2025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57040" y="1047600"/>
            <a:ext cx="1032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6 «Об утверждении федерального государственного образовательного стандарта началь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344520" y="2719440"/>
            <a:ext cx="955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ункт 2 приказов №286 и №2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в соответствии с ФГОС обучение лиц, зачисленных до вступления в силу настоящего приказа, 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их соглас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обучающихся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численных до вступления в силу настоящего прик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согласия их родителей (законных представ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257040" y="1882800"/>
            <a:ext cx="99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7 «Об утверждении федерального государственного образовательного стандарта основ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8640" y="256680"/>
            <a:ext cx="8820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 в ФГОС-2009/2010 и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8960" y="725400"/>
            <a:ext cx="955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ой организации образовательной деятельности в соответствии с обновленными ФГОС НОО и ФГОС ООО остается системно-деятельностный подход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храняется привычная структура образовательной программы, рабочих программ и курсов внеурочной деятельност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ется неизменной структура требований к результатам реализации основных образовательных программ, состоящая из групп требований к предметным, метапредметным и личностным результата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комплексных образовательных результатов осуществляется посредством использования в образовательном процессе проектной деятель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9560" y="2557080"/>
            <a:ext cx="77677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endParaRPr b="0" lang="en-US" sz="4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84240" y="609480"/>
            <a:ext cx="73900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58960" y="1157400"/>
            <a:ext cx="936144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90400" y="2292480"/>
          <a:ext cx="9630000" cy="3909960"/>
        </p:xfrm>
        <a:graphic>
          <a:graphicData uri="http://schemas.openxmlformats.org/drawingml/2006/table">
            <a:tbl>
              <a:tblPr/>
              <a:tblGrid>
                <a:gridCol w="3210120"/>
                <a:gridCol w="3209760"/>
                <a:gridCol w="321012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2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04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34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54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9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267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020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58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1"/>
          <p:cNvSpPr/>
          <p:nvPr/>
        </p:nvSpPr>
        <p:spPr>
          <a:xfrm>
            <a:off x="809640" y="14644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Изменилось общее количество часов за весь период обучения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84240" y="210600"/>
            <a:ext cx="7390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6280" y="791640"/>
            <a:ext cx="974556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412920" y="1395360"/>
            <a:ext cx="10370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ой язык и родная литература/литературное чтение на род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2.1 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ля Организаций, в которых языком образования является русский язык, изучение родного языка и родной литературы из числа языков народов Российской Федерации, государственных языков республик Российской Федерации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озможностей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родителей (законных представителей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совершеннолетних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84240" y="200160"/>
            <a:ext cx="73900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1560" y="725400"/>
            <a:ext cx="9980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601560" y="1392120"/>
            <a:ext cx="912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торой иностра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зучение второго иностранного язык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 перечня, предлагаемого Организ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обучающихся, родителей (законных представителей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вершеннолетних обучающихся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 Организации необходимых услов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1200" y="188640"/>
            <a:ext cx="86727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1200" y="692280"/>
            <a:ext cx="912204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601560" y="1245600"/>
            <a:ext cx="10593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редм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Математика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ной области «Математика и информатика» включает в себ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кур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Алгебр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Геометрия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ероятность и статистик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222120" y="1020240"/>
            <a:ext cx="981576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о Министерства просвещения Российской Федерации от 11.11.2021 № 03-1899 «Об обеспечении учебными изданиями (учебниками и учебными пособиями) обучающихся в 2022/23 учебном год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период перехода на обновленные ФГОС-2021 могут быть использован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юбые учебно-методические комплекты, включенные в федеральный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п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2"/>
              </a:rPr>
              <a:t>еречен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* учеб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ри этом особое внимание должно быть уделено изменению методики преподавания учебных предметов при одновременном использовании дополнительных учебных, дидактических материалов, ориентированных на формирование предметных, метапредметных и личностных результа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 Минпросвещения России от 20.05.2020 №254 "Об утверждении федерального перечня учебников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 организациями, осуществляющими образовательную деятельность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редусмотрена дифференциация образования посредством введения профи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2216160"/>
          <a:ext cx="11296800" cy="4641840"/>
        </p:xfrm>
        <a:graphic>
          <a:graphicData uri="http://schemas.openxmlformats.org/drawingml/2006/table">
            <a:tbl>
              <a:tblPr/>
              <a:tblGrid>
                <a:gridCol w="4836960"/>
                <a:gridCol w="645984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0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бразовательной деятельности по ООП НОО может быть основана на делении обучающихся на группы и различное построение учебного процесса в выделенных группах с учетом их успеваемости, образовательных потребностей и интересов, психического и физического здоровья, пола, общественных и профессиональных целей, в том числе обеспечивающ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глубленное изучение отдельных предметных областей, учебных предмет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далее - дифференциация обуч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тивность содержания программ основного общего образования обеспечивается во ФГОС за сче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возможности разработки и реализации Организацией программ основного общего образования, в том числе предусматривающих углубленное изучение отдельных учебных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9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предметным результатам определяю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ам освоения программ основного общего образования по учебным предметам 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овом и углубленном уровн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9T11:52:24Z</dcterms:created>
  <dc:creator>Tatyana Nikolaevna Solovjeva</dc:creator>
  <dc:description/>
  <dc:language>en-US</dc:language>
  <cp:lastModifiedBy>ИМО</cp:lastModifiedBy>
  <cp:lastPrinted>2022-03-23T14:30:43Z</cp:lastPrinted>
  <dcterms:modified xsi:type="dcterms:W3CDTF">2022-05-26T13:30:27Z</dcterms:modified>
  <cp:revision>174</cp:revision>
  <dc:subject/>
  <dc:title>Качество образования – приоритетная задача современной школы</dc:title>
</cp:coreProperties>
</file>